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23.wmf" ContentType="image/x-wmf"/>
  <Override PartName="/ppt/media/image40.png" ContentType="image/png"/>
  <Override PartName="/ppt/media/image10.png" ContentType="image/png"/>
  <Override PartName="/ppt/media/image26.png" ContentType="image/png"/>
  <Override PartName="/ppt/media/image32.jpeg" ContentType="image/jpeg"/>
  <Override PartName="/ppt/media/image11.wmf" ContentType="image/x-wmf"/>
  <Override PartName="/ppt/media/image5.jpeg" ContentType="image/jpeg"/>
  <Override PartName="/ppt/media/image33.png" ContentType="image/png"/>
  <Override PartName="/ppt/media/image8.png" ContentType="image/png"/>
  <Override PartName="/ppt/media/image16.wmf" ContentType="image/x-wmf"/>
  <Override PartName="/ppt/media/image35.wmf" ContentType="image/x-wmf"/>
  <Override PartName="/ppt/media/image39.png" ContentType="image/png"/>
  <Override PartName="/ppt/media/image41.png" ContentType="image/png"/>
  <Override PartName="/ppt/media/image31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8.wmf" ContentType="image/x-wmf"/>
  <Override PartName="/ppt/media/image20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30.png" ContentType="image/png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DEEB-2144-41EF-AC7E-5FCBFD481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FEB1-B9A0-4280-9E97-152495AE7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9AED0B-3F16-4B49-B3A8-42C530A55421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C40120-ABE3-4268-AFAF-495E5C8D7E47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AA0-61C4-4C30-8CF6-7BC2C17D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2700D9-3F17-4D2F-A7F2-047DBC0B1F52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ABAAE1-DA67-4DB6-9477-75FD0D4B03AC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FDD-A732-48B9-9F41-85B2D4DF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5645DB-D386-467C-97CA-C03BEA278766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071BB5-4E5C-464D-9CE8-091ED0E18E19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4473-EE80-4AF5-857D-73CAA341E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501884-6138-4C09-8CC7-662611BEB93B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9ED3AF-A8D9-4B40-A8AB-019B674E61BD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FB2-FBBA-44F8-9F07-99486967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036AD6-5A99-4601-8F22-E57BABA407DD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335D34-80DD-4373-B2D2-A69B106527B1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9AF-6AD0-421C-9854-192CEC58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3C5-09D5-4E13-AF8D-AEF8598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608-B7AE-4E33-BF5A-3C190C92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F6E-F410-4B98-8C70-A0CE1EF7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AFE-298A-4BDD-86D4-9BB71520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D4C5-6B8A-4E98-B375-61486536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D90D-240E-4514-AE53-EDBB3DE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3CB6-7151-4DE0-9D86-424B53C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6FAE-22D5-4107-8CE3-B419450D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1AE6-2D3C-4A84-ACBB-BEAFA43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237-CBAA-4FCB-A912-472609B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1A31-6DEC-42DF-91A8-9D70EB7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3C9-A8D3-413F-8D7E-687F1EB9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C182-F58A-4215-A8EB-B95E9C4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428-67B3-4374-9ED3-DCDA5A3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0032-444C-4F15-8982-7556B76C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D647-EDC8-4DFC-89EB-888C4A63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4A8B-5D18-494C-A8FB-42177E6A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31F-F3CA-425D-8D23-158EBCD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D5C-174C-4AAF-ADF1-6D207EEE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A7A-5A4F-4990-A460-C7C71C2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B61-051B-40D3-BA2E-66DF223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241-72FD-4E7C-8C21-3AC0820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04E221-B5FD-498B-97B7-0A52B18C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505231-E9B3-44A4-8772-1DDEE7C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5EFB68-75E6-4621-8AE6-B16C6B3E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4A71D-3FB0-4BF1-9213-FD91A76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1593A-0288-45DC-A9A0-C33ECA74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057-6F0A-4CBD-BC04-2B37CE3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00F06-AC19-4658-8183-C19E43D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55652-30D9-4B20-8DEE-86FCFC70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693F2-7430-46E1-A0CC-EAD4F09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DE62D-076A-40DB-9337-73443AF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5855D7-F7AB-456D-A2D7-4656382D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0575B-B73B-44EA-B9DC-4C848B9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88FFE-06CC-4C77-8299-ACEA994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08DE-39F9-441B-B479-C9BC52CB3B8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DC6-9319-4AB6-9175-BF6AFBA24FC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6"/>
          <p:cNvSpPr/>
          <p:nvPr/>
        </p:nvSpPr>
        <p:spPr>
          <a:xfrm>
            <a:off x="2571840" y="42876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fe Use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7236000" y="282600"/>
            <a:ext cx="170640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FBD9-FA11-4051-8E1F-56DE2AEC29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3AEE-6063-454A-BB26-CA82CC05DBA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2" descr="Title img 1"/>
          <p:cNvPicPr/>
          <p:nvPr/>
        </p:nvPicPr>
        <p:blipFill>
          <a:blip r:embed="rId2"/>
          <a:srcRect l="22085" t="20489" r="0" b="3428"/>
          <a:stretch/>
        </p:blipFill>
        <p:spPr>
          <a:xfrm>
            <a:off x="0" y="0"/>
            <a:ext cx="4967280" cy="274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Logo.jpg"/>
          <p:cNvPicPr/>
          <p:nvPr/>
        </p:nvPicPr>
        <p:blipFill>
          <a:blip r:embed="rId3"/>
          <a:stretch/>
        </p:blipFill>
        <p:spPr>
          <a:xfrm>
            <a:off x="5467320" y="565200"/>
            <a:ext cx="3014640" cy="1400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54120" y="5975280"/>
            <a:ext cx="785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51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02FC-DB1C-4EE6-965A-8D24FA5A58B9}" type="datetime">
              <a:rPr b="0" lang="en-GB" sz="2400" spc="-1" strike="noStrike">
                <a:solidFill>
                  <a:srgbClr val="5519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ns Fel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 Conference on Safe Use of Plant Protection Products       June 7th-8th in Vilnius, Lithu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E491-A5A8-49EA-8D32-F973C630C5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package" Target="../embeddings/oleObject5.docx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package" Target="../embeddings/oleObject7.docx"/><Relationship Id="rId15" Type="http://schemas.openxmlformats.org/officeDocument/2006/relationships/image" Target="../media/image23.wmf"/><Relationship Id="rId16" Type="http://schemas.openxmlformats.org/officeDocument/2006/relationships/package" Target="../embeddings/oleObject8.docx"/><Relationship Id="rId17" Type="http://schemas.openxmlformats.org/officeDocument/2006/relationships/image" Target="../media/image24.wmf"/><Relationship Id="rId18" Type="http://schemas.openxmlformats.org/officeDocument/2006/relationships/image" Target="../media/image25.jpe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66640" y="3645000"/>
            <a:ext cx="78580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51900"/>
                </a:solidFill>
                <a:latin typeface="Arial"/>
              </a:rPr>
              <a:t>Kalibracija </a:t>
            </a:r>
            <a:r>
              <a:rPr b="1" lang="sr-Latn-RS" sz="4400" spc="-1" strike="noStrike">
                <a:solidFill>
                  <a:srgbClr val="551900"/>
                </a:solidFill>
                <a:latin typeface="Arial"/>
              </a:rPr>
              <a:t>leđne prskalice</a:t>
            </a:r>
            <a:endParaRPr b="1" lang="en-US" sz="4400" spc="-1" strike="noStrike">
              <a:solidFill>
                <a:srgbClr val="551900"/>
              </a:solidFill>
              <a:latin typeface="Arial"/>
            </a:endParaRPr>
          </a:p>
        </p:txBody>
      </p:sp>
      <p:pic>
        <p:nvPicPr>
          <p:cNvPr id="332" name="Picture 4" descr="C:\Users\marinal3\Desktop\logo SECPA.jpg"/>
          <p:cNvPicPr/>
          <p:nvPr/>
        </p:nvPicPr>
        <p:blipFill>
          <a:blip r:embed="rId1"/>
          <a:stretch/>
        </p:blipFill>
        <p:spPr>
          <a:xfrm>
            <a:off x="7596360" y="82440"/>
            <a:ext cx="1428480" cy="1071720"/>
          </a:xfrm>
          <a:prstGeom prst="rect">
            <a:avLst/>
          </a:prstGeom>
          <a:ln w="0">
            <a:noFill/>
          </a:ln>
        </p:spPr>
      </p:pic>
      <p:sp>
        <p:nvSpPr>
          <p:cNvPr id="333" name="Subtitle 2"/>
          <p:cNvSpPr/>
          <p:nvPr/>
        </p:nvSpPr>
        <p:spPr>
          <a:xfrm>
            <a:off x="581040" y="4941720"/>
            <a:ext cx="8020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551900"/>
                </a:solidFill>
                <a:latin typeface="Arial"/>
              </a:rPr>
              <a:t>Trening „Bezbedna upotreba pesticida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5"/>
          <p:cNvSpPr/>
          <p:nvPr/>
        </p:nvSpPr>
        <p:spPr>
          <a:xfrm>
            <a:off x="539640" y="150012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aterijal za kalibraciju – više vremena i rada u odnosu na kalibracijski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liennummernplatzhalt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19C-C0B7-409C-AC9E-A000E51364EB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"/>
          <p:cNvGrpSpPr/>
          <p:nvPr/>
        </p:nvGrpSpPr>
        <p:grpSpPr>
          <a:xfrm>
            <a:off x="639720" y="2271600"/>
            <a:ext cx="8166240" cy="4713120"/>
            <a:chOff x="639720" y="2271600"/>
            <a:chExt cx="8166240" cy="4713120"/>
          </a:xfrm>
        </p:grpSpPr>
        <p:graphicFrame>
          <p:nvGraphicFramePr>
            <p:cNvPr id="407" name="Object 4"/>
            <p:cNvGraphicFramePr/>
            <p:nvPr/>
          </p:nvGraphicFramePr>
          <p:xfrm>
            <a:off x="1312920" y="4340520"/>
            <a:ext cx="1371600" cy="754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0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12920" y="4340520"/>
                      <a:ext cx="1371600" cy="75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Object 5"/>
            <p:cNvGraphicFramePr/>
            <p:nvPr/>
          </p:nvGraphicFramePr>
          <p:xfrm>
            <a:off x="639720" y="2764800"/>
            <a:ext cx="1011240" cy="15847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1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9720" y="2764800"/>
                      <a:ext cx="1011240" cy="15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Object 6"/>
            <p:cNvGraphicFramePr/>
            <p:nvPr/>
          </p:nvGraphicFramePr>
          <p:xfrm>
            <a:off x="1679400" y="5145480"/>
            <a:ext cx="2108160" cy="10720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79400" y="5145480"/>
                      <a:ext cx="2108160" cy="10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7"/>
            <p:cNvGraphicFramePr/>
            <p:nvPr/>
          </p:nvGraphicFramePr>
          <p:xfrm>
            <a:off x="639720" y="5631120"/>
            <a:ext cx="1039680" cy="10378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41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9720" y="5631120"/>
                      <a:ext cx="1039680" cy="10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5" name="Group 8"/>
            <p:cNvGrpSpPr/>
            <p:nvPr/>
          </p:nvGrpSpPr>
          <p:grpSpPr>
            <a:xfrm>
              <a:off x="5288040" y="4951800"/>
              <a:ext cx="3517920" cy="2032920"/>
              <a:chOff x="5288040" y="4951800"/>
              <a:chExt cx="3517920" cy="2032920"/>
            </a:xfrm>
          </p:grpSpPr>
          <p:pic>
            <p:nvPicPr>
              <p:cNvPr id="416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5288040" y="4951800"/>
                <a:ext cx="3517920" cy="20329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17" name="Object 10"/>
              <p:cNvGraphicFramePr/>
              <p:nvPr/>
            </p:nvGraphicFramePr>
            <p:xfrm>
              <a:off x="6659640" y="5932800"/>
              <a:ext cx="2133720" cy="101052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418" name="Object 10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659640" y="5932800"/>
                        <a:ext cx="2133720" cy="1010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19" name="Object 11"/>
              <p:cNvGraphicFramePr/>
              <p:nvPr/>
            </p:nvGraphicFramePr>
            <p:xfrm>
              <a:off x="6431040" y="5630760"/>
              <a:ext cx="971640" cy="528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20" name="Object 11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431040" y="5630760"/>
                        <a:ext cx="971640" cy="52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21" name="Object 12"/>
            <p:cNvGraphicFramePr/>
            <p:nvPr/>
          </p:nvGraphicFramePr>
          <p:xfrm>
            <a:off x="2087640" y="2760120"/>
            <a:ext cx="2286000" cy="1429200"/>
          </p:xfrm>
          <a:graphic>
            <a:graphicData uri="http://schemas.openxmlformats.org/presentationml/2006/ole">
              <p:oleObj progId="Word.Document.12" r:id="rId14" spid="">
                <p:embed/>
                <p:pic>
                  <p:nvPicPr>
                    <p:cNvPr id="422" name="Object 12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087640" y="2760120"/>
                      <a:ext cx="2286000" cy="142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13"/>
            <p:cNvGraphicFramePr/>
            <p:nvPr/>
          </p:nvGraphicFramePr>
          <p:xfrm>
            <a:off x="6138720" y="2917440"/>
            <a:ext cx="2667240" cy="1422720"/>
          </p:xfrm>
          <a:graphic>
            <a:graphicData uri="http://schemas.openxmlformats.org/presentationml/2006/ole">
              <p:oleObj progId="Word.Document.12" r:id="rId16" spid="">
                <p:embed/>
                <p:pic>
                  <p:nvPicPr>
                    <p:cNvPr id="424" name="Object 1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138720" y="2917440"/>
                      <a:ext cx="266724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25" name="Group 14"/>
            <p:cNvGrpSpPr/>
            <p:nvPr/>
          </p:nvGrpSpPr>
          <p:grpSpPr>
            <a:xfrm>
              <a:off x="4440240" y="2271600"/>
              <a:ext cx="1738080" cy="2195640"/>
              <a:chOff x="4440240" y="2271600"/>
              <a:chExt cx="1738080" cy="2195640"/>
            </a:xfrm>
          </p:grpSpPr>
          <p:pic>
            <p:nvPicPr>
              <p:cNvPr id="426" name="Picture 15" descr="Imgp1740cali-zen"/>
              <p:cNvPicPr/>
              <p:nvPr/>
            </p:nvPicPr>
            <p:blipFill>
              <a:blip r:embed="rId18"/>
              <a:stretch/>
            </p:blipFill>
            <p:spPr>
              <a:xfrm>
                <a:off x="4511880" y="2302560"/>
                <a:ext cx="1618200" cy="2087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7" name="Group 16"/>
              <p:cNvGrpSpPr/>
              <p:nvPr/>
            </p:nvGrpSpPr>
            <p:grpSpPr>
              <a:xfrm>
                <a:off x="4440240" y="2271600"/>
                <a:ext cx="1738080" cy="2195640"/>
                <a:chOff x="4440240" y="2271600"/>
                <a:chExt cx="1738080" cy="2195640"/>
              </a:xfrm>
            </p:grpSpPr>
            <p:sp>
              <p:nvSpPr>
                <p:cNvPr id="428" name="Freeform 17"/>
                <p:cNvSpPr/>
                <p:nvPr/>
              </p:nvSpPr>
              <p:spPr>
                <a:xfrm>
                  <a:off x="4440240" y="2284920"/>
                  <a:ext cx="1738080" cy="2182320"/>
                </a:xfrm>
                <a:custGeom>
                  <a:avLst/>
                  <a:gdLst>
                    <a:gd name="textAreaLeft" fmla="*/ 0 w 1738080"/>
                    <a:gd name="textAreaRight" fmla="*/ 1738440 w 1738080"/>
                    <a:gd name="textAreaTop" fmla="*/ 0 h 2182320"/>
                    <a:gd name="textAreaBottom" fmla="*/ 2182680 h 2182320"/>
                  </a:gdLst>
                  <a:ahLst/>
                  <a:rect l="textAreaLeft" t="textAreaTop" r="textAreaRight" b="textAreaBottom"/>
                  <a:pathLst>
                    <a:path w="2204" h="2860">
                      <a:moveTo>
                        <a:pt x="85" y="9"/>
                      </a:moveTo>
                      <a:cubicBezTo>
                        <a:pt x="601" y="3"/>
                        <a:pt x="1117" y="18"/>
                        <a:pt x="1633" y="3"/>
                      </a:cubicBezTo>
                      <a:cubicBezTo>
                        <a:pt x="1799" y="11"/>
                        <a:pt x="1965" y="0"/>
                        <a:pt x="2131" y="9"/>
                      </a:cubicBezTo>
                      <a:cubicBezTo>
                        <a:pt x="2143" y="11"/>
                        <a:pt x="2170" y="13"/>
                        <a:pt x="2179" y="27"/>
                      </a:cubicBezTo>
                      <a:cubicBezTo>
                        <a:pt x="2186" y="38"/>
                        <a:pt x="2191" y="63"/>
                        <a:pt x="2191" y="63"/>
                      </a:cubicBezTo>
                      <a:cubicBezTo>
                        <a:pt x="2185" y="108"/>
                        <a:pt x="2172" y="151"/>
                        <a:pt x="2161" y="195"/>
                      </a:cubicBezTo>
                      <a:cubicBezTo>
                        <a:pt x="2172" y="377"/>
                        <a:pt x="2168" y="559"/>
                        <a:pt x="2179" y="741"/>
                      </a:cubicBezTo>
                      <a:cubicBezTo>
                        <a:pt x="2183" y="815"/>
                        <a:pt x="2191" y="963"/>
                        <a:pt x="2191" y="963"/>
                      </a:cubicBezTo>
                      <a:cubicBezTo>
                        <a:pt x="2184" y="1164"/>
                        <a:pt x="2187" y="1362"/>
                        <a:pt x="2173" y="1563"/>
                      </a:cubicBezTo>
                      <a:cubicBezTo>
                        <a:pt x="2179" y="1718"/>
                        <a:pt x="2194" y="1871"/>
                        <a:pt x="2203" y="2025"/>
                      </a:cubicBezTo>
                      <a:cubicBezTo>
                        <a:pt x="2199" y="2139"/>
                        <a:pt x="2204" y="2178"/>
                        <a:pt x="2185" y="2265"/>
                      </a:cubicBezTo>
                      <a:cubicBezTo>
                        <a:pt x="2183" y="2275"/>
                        <a:pt x="2181" y="2285"/>
                        <a:pt x="2179" y="2295"/>
                      </a:cubicBezTo>
                      <a:cubicBezTo>
                        <a:pt x="2177" y="2301"/>
                        <a:pt x="2174" y="2307"/>
                        <a:pt x="2173" y="2313"/>
                      </a:cubicBezTo>
                      <a:cubicBezTo>
                        <a:pt x="2168" y="2333"/>
                        <a:pt x="2161" y="2373"/>
                        <a:pt x="2161" y="2373"/>
                      </a:cubicBezTo>
                      <a:cubicBezTo>
                        <a:pt x="2171" y="2489"/>
                        <a:pt x="2154" y="2609"/>
                        <a:pt x="2191" y="2721"/>
                      </a:cubicBezTo>
                      <a:cubicBezTo>
                        <a:pt x="2189" y="2741"/>
                        <a:pt x="2191" y="2762"/>
                        <a:pt x="2185" y="2781"/>
                      </a:cubicBezTo>
                      <a:cubicBezTo>
                        <a:pt x="2183" y="2788"/>
                        <a:pt x="2173" y="2790"/>
                        <a:pt x="2167" y="2793"/>
                      </a:cubicBezTo>
                      <a:cubicBezTo>
                        <a:pt x="2123" y="2815"/>
                        <a:pt x="2061" y="2814"/>
                        <a:pt x="2017" y="2817"/>
                      </a:cubicBezTo>
                      <a:cubicBezTo>
                        <a:pt x="1931" y="2824"/>
                        <a:pt x="1845" y="2831"/>
                        <a:pt x="1759" y="2841"/>
                      </a:cubicBezTo>
                      <a:cubicBezTo>
                        <a:pt x="1571" y="2838"/>
                        <a:pt x="1386" y="2842"/>
                        <a:pt x="1201" y="2811"/>
                      </a:cubicBezTo>
                      <a:cubicBezTo>
                        <a:pt x="1004" y="2816"/>
                        <a:pt x="810" y="2829"/>
                        <a:pt x="613" y="2841"/>
                      </a:cubicBezTo>
                      <a:cubicBezTo>
                        <a:pt x="480" y="2860"/>
                        <a:pt x="364" y="2816"/>
                        <a:pt x="235" y="2799"/>
                      </a:cubicBezTo>
                      <a:cubicBezTo>
                        <a:pt x="164" y="2789"/>
                        <a:pt x="91" y="2785"/>
                        <a:pt x="19" y="2781"/>
                      </a:cubicBezTo>
                      <a:cubicBezTo>
                        <a:pt x="3" y="2756"/>
                        <a:pt x="0" y="2750"/>
                        <a:pt x="7" y="2721"/>
                      </a:cubicBezTo>
                      <a:cubicBezTo>
                        <a:pt x="11" y="2662"/>
                        <a:pt x="13" y="2605"/>
                        <a:pt x="25" y="2547"/>
                      </a:cubicBezTo>
                      <a:cubicBezTo>
                        <a:pt x="33" y="2437"/>
                        <a:pt x="43" y="2327"/>
                        <a:pt x="49" y="2217"/>
                      </a:cubicBezTo>
                      <a:cubicBezTo>
                        <a:pt x="31" y="2107"/>
                        <a:pt x="34" y="1993"/>
                        <a:pt x="25" y="1881"/>
                      </a:cubicBezTo>
                      <a:cubicBezTo>
                        <a:pt x="30" y="1691"/>
                        <a:pt x="36" y="1514"/>
                        <a:pt x="67" y="1329"/>
                      </a:cubicBezTo>
                      <a:cubicBezTo>
                        <a:pt x="83" y="1117"/>
                        <a:pt x="46" y="905"/>
                        <a:pt x="31" y="693"/>
                      </a:cubicBezTo>
                      <a:cubicBezTo>
                        <a:pt x="27" y="587"/>
                        <a:pt x="17" y="491"/>
                        <a:pt x="7" y="387"/>
                      </a:cubicBezTo>
                      <a:cubicBezTo>
                        <a:pt x="14" y="295"/>
                        <a:pt x="36" y="228"/>
                        <a:pt x="55" y="141"/>
                      </a:cubicBezTo>
                      <a:cubicBezTo>
                        <a:pt x="59" y="122"/>
                        <a:pt x="64" y="66"/>
                        <a:pt x="79" y="51"/>
                      </a:cubicBezTo>
                      <a:cubicBezTo>
                        <a:pt x="91" y="39"/>
                        <a:pt x="111" y="42"/>
                        <a:pt x="127" y="39"/>
                      </a:cubicBezTo>
                      <a:cubicBezTo>
                        <a:pt x="166" y="47"/>
                        <a:pt x="198" y="57"/>
                        <a:pt x="235" y="69"/>
                      </a:cubicBezTo>
                      <a:cubicBezTo>
                        <a:pt x="268" y="93"/>
                        <a:pt x="297" y="119"/>
                        <a:pt x="337" y="129"/>
                      </a:cubicBezTo>
                      <a:cubicBezTo>
                        <a:pt x="408" y="172"/>
                        <a:pt x="464" y="214"/>
                        <a:pt x="523" y="273"/>
                      </a:cubicBezTo>
                      <a:cubicBezTo>
                        <a:pt x="532" y="282"/>
                        <a:pt x="546" y="314"/>
                        <a:pt x="553" y="327"/>
                      </a:cubicBezTo>
                      <a:cubicBezTo>
                        <a:pt x="572" y="361"/>
                        <a:pt x="597" y="392"/>
                        <a:pt x="619" y="423"/>
                      </a:cubicBezTo>
                      <a:cubicBezTo>
                        <a:pt x="641" y="454"/>
                        <a:pt x="678" y="495"/>
                        <a:pt x="691" y="531"/>
                      </a:cubicBezTo>
                      <a:cubicBezTo>
                        <a:pt x="698" y="551"/>
                        <a:pt x="709" y="591"/>
                        <a:pt x="709" y="591"/>
                      </a:cubicBezTo>
                      <a:cubicBezTo>
                        <a:pt x="717" y="657"/>
                        <a:pt x="716" y="723"/>
                        <a:pt x="727" y="789"/>
                      </a:cubicBezTo>
                      <a:cubicBezTo>
                        <a:pt x="710" y="839"/>
                        <a:pt x="736" y="759"/>
                        <a:pt x="715" y="849"/>
                      </a:cubicBezTo>
                      <a:cubicBezTo>
                        <a:pt x="712" y="861"/>
                        <a:pt x="703" y="885"/>
                        <a:pt x="703" y="885"/>
                      </a:cubicBezTo>
                      <a:cubicBezTo>
                        <a:pt x="707" y="905"/>
                        <a:pt x="712" y="925"/>
                        <a:pt x="715" y="945"/>
                      </a:cubicBezTo>
                      <a:cubicBezTo>
                        <a:pt x="719" y="969"/>
                        <a:pt x="727" y="1017"/>
                        <a:pt x="727" y="1017"/>
                      </a:cubicBezTo>
                      <a:cubicBezTo>
                        <a:pt x="717" y="1089"/>
                        <a:pt x="681" y="1146"/>
                        <a:pt x="637" y="1203"/>
                      </a:cubicBezTo>
                      <a:cubicBezTo>
                        <a:pt x="628" y="1214"/>
                        <a:pt x="623" y="1229"/>
                        <a:pt x="613" y="1239"/>
                      </a:cubicBezTo>
                      <a:cubicBezTo>
                        <a:pt x="595" y="1257"/>
                        <a:pt x="573" y="1272"/>
                        <a:pt x="559" y="1293"/>
                      </a:cubicBezTo>
                      <a:cubicBezTo>
                        <a:pt x="543" y="1318"/>
                        <a:pt x="522" y="1343"/>
                        <a:pt x="511" y="1371"/>
                      </a:cubicBezTo>
                      <a:cubicBezTo>
                        <a:pt x="506" y="1383"/>
                        <a:pt x="499" y="1407"/>
                        <a:pt x="499" y="1407"/>
                      </a:cubicBezTo>
                      <a:cubicBezTo>
                        <a:pt x="508" y="1499"/>
                        <a:pt x="513" y="1587"/>
                        <a:pt x="535" y="1677"/>
                      </a:cubicBezTo>
                      <a:cubicBezTo>
                        <a:pt x="543" y="1709"/>
                        <a:pt x="549" y="1741"/>
                        <a:pt x="559" y="1773"/>
                      </a:cubicBezTo>
                      <a:cubicBezTo>
                        <a:pt x="563" y="1785"/>
                        <a:pt x="571" y="1809"/>
                        <a:pt x="571" y="1809"/>
                      </a:cubicBezTo>
                      <a:cubicBezTo>
                        <a:pt x="569" y="1825"/>
                        <a:pt x="571" y="1842"/>
                        <a:pt x="565" y="1857"/>
                      </a:cubicBezTo>
                      <a:cubicBezTo>
                        <a:pt x="562" y="1864"/>
                        <a:pt x="552" y="1864"/>
                        <a:pt x="547" y="1869"/>
                      </a:cubicBezTo>
                      <a:cubicBezTo>
                        <a:pt x="535" y="1881"/>
                        <a:pt x="534" y="1890"/>
                        <a:pt x="529" y="1905"/>
                      </a:cubicBezTo>
                      <a:cubicBezTo>
                        <a:pt x="535" y="1970"/>
                        <a:pt x="538" y="2057"/>
                        <a:pt x="583" y="2109"/>
                      </a:cubicBezTo>
                      <a:cubicBezTo>
                        <a:pt x="592" y="2120"/>
                        <a:pt x="627" y="2154"/>
                        <a:pt x="637" y="2163"/>
                      </a:cubicBezTo>
                      <a:cubicBezTo>
                        <a:pt x="648" y="2173"/>
                        <a:pt x="673" y="2187"/>
                        <a:pt x="673" y="2187"/>
                      </a:cubicBezTo>
                      <a:cubicBezTo>
                        <a:pt x="687" y="2208"/>
                        <a:pt x="700" y="2221"/>
                        <a:pt x="721" y="2235"/>
                      </a:cubicBezTo>
                      <a:cubicBezTo>
                        <a:pt x="724" y="2265"/>
                        <a:pt x="712" y="2304"/>
                        <a:pt x="733" y="2325"/>
                      </a:cubicBezTo>
                      <a:cubicBezTo>
                        <a:pt x="737" y="2329"/>
                        <a:pt x="745" y="2328"/>
                        <a:pt x="751" y="2331"/>
                      </a:cubicBezTo>
                      <a:cubicBezTo>
                        <a:pt x="788" y="2350"/>
                        <a:pt x="828" y="2360"/>
                        <a:pt x="865" y="2379"/>
                      </a:cubicBezTo>
                      <a:cubicBezTo>
                        <a:pt x="933" y="2413"/>
                        <a:pt x="994" y="2462"/>
                        <a:pt x="1063" y="2493"/>
                      </a:cubicBezTo>
                      <a:cubicBezTo>
                        <a:pt x="1091" y="2505"/>
                        <a:pt x="1120" y="2517"/>
                        <a:pt x="1147" y="2529"/>
                      </a:cubicBezTo>
                      <a:cubicBezTo>
                        <a:pt x="1164" y="2537"/>
                        <a:pt x="1185" y="2536"/>
                        <a:pt x="1201" y="2547"/>
                      </a:cubicBezTo>
                      <a:cubicBezTo>
                        <a:pt x="1224" y="2562"/>
                        <a:pt x="1264" y="2579"/>
                        <a:pt x="1291" y="2589"/>
                      </a:cubicBezTo>
                      <a:cubicBezTo>
                        <a:pt x="1318" y="2599"/>
                        <a:pt x="1317" y="2590"/>
                        <a:pt x="1339" y="2601"/>
                      </a:cubicBezTo>
                      <a:cubicBezTo>
                        <a:pt x="1345" y="2604"/>
                        <a:pt x="1350" y="2610"/>
                        <a:pt x="1357" y="2613"/>
                      </a:cubicBezTo>
                      <a:cubicBezTo>
                        <a:pt x="1367" y="2617"/>
                        <a:pt x="1377" y="2616"/>
                        <a:pt x="1387" y="2619"/>
                      </a:cubicBezTo>
                      <a:cubicBezTo>
                        <a:pt x="1399" y="2622"/>
                        <a:pt x="1423" y="2631"/>
                        <a:pt x="1423" y="2631"/>
                      </a:cubicBezTo>
                      <a:cubicBezTo>
                        <a:pt x="1450" y="2624"/>
                        <a:pt x="1460" y="2610"/>
                        <a:pt x="1483" y="2595"/>
                      </a:cubicBezTo>
                      <a:cubicBezTo>
                        <a:pt x="1499" y="2571"/>
                        <a:pt x="1528" y="2551"/>
                        <a:pt x="1537" y="2523"/>
                      </a:cubicBezTo>
                      <a:cubicBezTo>
                        <a:pt x="1550" y="2485"/>
                        <a:pt x="1558" y="2438"/>
                        <a:pt x="1579" y="2403"/>
                      </a:cubicBezTo>
                      <a:cubicBezTo>
                        <a:pt x="1590" y="2385"/>
                        <a:pt x="1627" y="2331"/>
                        <a:pt x="1633" y="2313"/>
                      </a:cubicBezTo>
                      <a:cubicBezTo>
                        <a:pt x="1642" y="2287"/>
                        <a:pt x="1657" y="2265"/>
                        <a:pt x="1669" y="2241"/>
                      </a:cubicBezTo>
                      <a:cubicBezTo>
                        <a:pt x="1680" y="2219"/>
                        <a:pt x="1687" y="2196"/>
                        <a:pt x="1699" y="2175"/>
                      </a:cubicBezTo>
                      <a:cubicBezTo>
                        <a:pt x="1722" y="2134"/>
                        <a:pt x="1744" y="2087"/>
                        <a:pt x="1759" y="2043"/>
                      </a:cubicBezTo>
                      <a:cubicBezTo>
                        <a:pt x="1765" y="2025"/>
                        <a:pt x="1771" y="2007"/>
                        <a:pt x="1777" y="1989"/>
                      </a:cubicBezTo>
                      <a:cubicBezTo>
                        <a:pt x="1779" y="1983"/>
                        <a:pt x="1783" y="1971"/>
                        <a:pt x="1783" y="1971"/>
                      </a:cubicBezTo>
                      <a:cubicBezTo>
                        <a:pt x="1798" y="1864"/>
                        <a:pt x="1828" y="1760"/>
                        <a:pt x="1843" y="1653"/>
                      </a:cubicBezTo>
                      <a:cubicBezTo>
                        <a:pt x="1855" y="1571"/>
                        <a:pt x="1859" y="1489"/>
                        <a:pt x="1873" y="1407"/>
                      </a:cubicBezTo>
                      <a:cubicBezTo>
                        <a:pt x="1882" y="1355"/>
                        <a:pt x="1895" y="1304"/>
                        <a:pt x="1903" y="1251"/>
                      </a:cubicBezTo>
                      <a:cubicBezTo>
                        <a:pt x="1902" y="1226"/>
                        <a:pt x="1921" y="1063"/>
                        <a:pt x="1855" y="1041"/>
                      </a:cubicBezTo>
                      <a:cubicBezTo>
                        <a:pt x="1809" y="995"/>
                        <a:pt x="1745" y="992"/>
                        <a:pt x="1693" y="957"/>
                      </a:cubicBezTo>
                      <a:cubicBezTo>
                        <a:pt x="1677" y="932"/>
                        <a:pt x="1686" y="925"/>
                        <a:pt x="1693" y="897"/>
                      </a:cubicBezTo>
                      <a:cubicBezTo>
                        <a:pt x="1678" y="852"/>
                        <a:pt x="1672" y="804"/>
                        <a:pt x="1657" y="759"/>
                      </a:cubicBezTo>
                      <a:cubicBezTo>
                        <a:pt x="1640" y="709"/>
                        <a:pt x="1588" y="683"/>
                        <a:pt x="1549" y="657"/>
                      </a:cubicBezTo>
                      <a:cubicBezTo>
                        <a:pt x="1493" y="620"/>
                        <a:pt x="1431" y="583"/>
                        <a:pt x="1363" y="573"/>
                      </a:cubicBezTo>
                      <a:cubicBezTo>
                        <a:pt x="1319" y="567"/>
                        <a:pt x="1275" y="564"/>
                        <a:pt x="1231" y="555"/>
                      </a:cubicBezTo>
                      <a:cubicBezTo>
                        <a:pt x="1133" y="564"/>
                        <a:pt x="1041" y="595"/>
                        <a:pt x="943" y="609"/>
                      </a:cubicBezTo>
                      <a:cubicBezTo>
                        <a:pt x="927" y="611"/>
                        <a:pt x="911" y="616"/>
                        <a:pt x="895" y="621"/>
                      </a:cubicBezTo>
                      <a:cubicBezTo>
                        <a:pt x="883" y="625"/>
                        <a:pt x="859" y="633"/>
                        <a:pt x="859" y="633"/>
                      </a:cubicBezTo>
                      <a:cubicBezTo>
                        <a:pt x="848" y="644"/>
                        <a:pt x="833" y="651"/>
                        <a:pt x="823" y="663"/>
                      </a:cubicBezTo>
                      <a:cubicBezTo>
                        <a:pt x="774" y="719"/>
                        <a:pt x="822" y="684"/>
                        <a:pt x="781" y="711"/>
                      </a:cubicBezTo>
                      <a:cubicBezTo>
                        <a:pt x="768" y="731"/>
                        <a:pt x="752" y="739"/>
                        <a:pt x="739" y="759"/>
                      </a:cubicBezTo>
                      <a:cubicBezTo>
                        <a:pt x="722" y="734"/>
                        <a:pt x="733" y="723"/>
                        <a:pt x="739" y="693"/>
                      </a:cubicBezTo>
                      <a:cubicBezTo>
                        <a:pt x="735" y="637"/>
                        <a:pt x="733" y="585"/>
                        <a:pt x="721" y="531"/>
                      </a:cubicBezTo>
                      <a:cubicBezTo>
                        <a:pt x="714" y="498"/>
                        <a:pt x="685" y="462"/>
                        <a:pt x="667" y="435"/>
                      </a:cubicBezTo>
                      <a:cubicBezTo>
                        <a:pt x="643" y="399"/>
                        <a:pt x="632" y="364"/>
                        <a:pt x="601" y="333"/>
                      </a:cubicBezTo>
                      <a:cubicBezTo>
                        <a:pt x="587" y="292"/>
                        <a:pt x="606" y="336"/>
                        <a:pt x="577" y="303"/>
                      </a:cubicBezTo>
                      <a:cubicBezTo>
                        <a:pt x="543" y="264"/>
                        <a:pt x="519" y="212"/>
                        <a:pt x="475" y="183"/>
                      </a:cubicBezTo>
                      <a:cubicBezTo>
                        <a:pt x="409" y="85"/>
                        <a:pt x="322" y="76"/>
                        <a:pt x="217" y="45"/>
                      </a:cubicBezTo>
                      <a:cubicBezTo>
                        <a:pt x="171" y="31"/>
                        <a:pt x="132" y="16"/>
                        <a:pt x="85" y="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8"/>
                <p:cNvSpPr/>
                <p:nvPr/>
              </p:nvSpPr>
              <p:spPr>
                <a:xfrm>
                  <a:off x="4462920" y="2271600"/>
                  <a:ext cx="1185120" cy="646200"/>
                </a:xfrm>
                <a:custGeom>
                  <a:avLst/>
                  <a:gdLst>
                    <a:gd name="textAreaLeft" fmla="*/ 0 w 1185120"/>
                    <a:gd name="textAreaRight" fmla="*/ 1185480 w 1185120"/>
                    <a:gd name="textAreaTop" fmla="*/ 0 h 646200"/>
                    <a:gd name="textAreaBottom" fmla="*/ 646560 h 646200"/>
                  </a:gdLst>
                  <a:ahLst/>
                  <a:rect l="textAreaLeft" t="textAreaTop" r="textAreaRight" b="textAreaBottom"/>
                  <a:pathLst>
                    <a:path w="1503" h="847">
                      <a:moveTo>
                        <a:pt x="1496" y="639"/>
                      </a:moveTo>
                      <a:cubicBezTo>
                        <a:pt x="1397" y="606"/>
                        <a:pt x="1287" y="596"/>
                        <a:pt x="1184" y="591"/>
                      </a:cubicBezTo>
                      <a:cubicBezTo>
                        <a:pt x="1110" y="603"/>
                        <a:pt x="1037" y="615"/>
                        <a:pt x="962" y="621"/>
                      </a:cubicBezTo>
                      <a:cubicBezTo>
                        <a:pt x="899" y="637"/>
                        <a:pt x="841" y="675"/>
                        <a:pt x="788" y="711"/>
                      </a:cubicBezTo>
                      <a:cubicBezTo>
                        <a:pt x="770" y="723"/>
                        <a:pt x="752" y="731"/>
                        <a:pt x="734" y="741"/>
                      </a:cubicBezTo>
                      <a:cubicBezTo>
                        <a:pt x="721" y="748"/>
                        <a:pt x="684" y="770"/>
                        <a:pt x="698" y="765"/>
                      </a:cubicBezTo>
                      <a:cubicBezTo>
                        <a:pt x="723" y="757"/>
                        <a:pt x="711" y="763"/>
                        <a:pt x="734" y="747"/>
                      </a:cubicBezTo>
                      <a:cubicBezTo>
                        <a:pt x="728" y="766"/>
                        <a:pt x="712" y="781"/>
                        <a:pt x="698" y="795"/>
                      </a:cubicBezTo>
                      <a:cubicBezTo>
                        <a:pt x="693" y="800"/>
                        <a:pt x="680" y="800"/>
                        <a:pt x="680" y="807"/>
                      </a:cubicBezTo>
                      <a:cubicBezTo>
                        <a:pt x="680" y="813"/>
                        <a:pt x="692" y="803"/>
                        <a:pt x="698" y="801"/>
                      </a:cubicBezTo>
                      <a:cubicBezTo>
                        <a:pt x="667" y="847"/>
                        <a:pt x="636" y="836"/>
                        <a:pt x="584" y="831"/>
                      </a:cubicBezTo>
                      <a:cubicBezTo>
                        <a:pt x="480" y="779"/>
                        <a:pt x="478" y="727"/>
                        <a:pt x="416" y="645"/>
                      </a:cubicBezTo>
                      <a:cubicBezTo>
                        <a:pt x="389" y="564"/>
                        <a:pt x="326" y="483"/>
                        <a:pt x="266" y="423"/>
                      </a:cubicBezTo>
                      <a:cubicBezTo>
                        <a:pt x="228" y="385"/>
                        <a:pt x="171" y="349"/>
                        <a:pt x="140" y="303"/>
                      </a:cubicBezTo>
                      <a:cubicBezTo>
                        <a:pt x="108" y="255"/>
                        <a:pt x="70" y="215"/>
                        <a:pt x="14" y="201"/>
                      </a:cubicBezTo>
                      <a:cubicBezTo>
                        <a:pt x="6" y="178"/>
                        <a:pt x="0" y="164"/>
                        <a:pt x="8" y="141"/>
                      </a:cubicBezTo>
                      <a:cubicBezTo>
                        <a:pt x="6" y="125"/>
                        <a:pt x="2" y="109"/>
                        <a:pt x="2" y="93"/>
                      </a:cubicBezTo>
                      <a:cubicBezTo>
                        <a:pt x="2" y="0"/>
                        <a:pt x="67" y="31"/>
                        <a:pt x="140" y="21"/>
                      </a:cubicBezTo>
                      <a:cubicBezTo>
                        <a:pt x="257" y="50"/>
                        <a:pt x="371" y="71"/>
                        <a:pt x="482" y="117"/>
                      </a:cubicBezTo>
                      <a:cubicBezTo>
                        <a:pt x="500" y="124"/>
                        <a:pt x="519" y="127"/>
                        <a:pt x="536" y="135"/>
                      </a:cubicBezTo>
                      <a:cubicBezTo>
                        <a:pt x="643" y="188"/>
                        <a:pt x="745" y="250"/>
                        <a:pt x="848" y="309"/>
                      </a:cubicBezTo>
                      <a:cubicBezTo>
                        <a:pt x="917" y="349"/>
                        <a:pt x="994" y="378"/>
                        <a:pt x="1064" y="417"/>
                      </a:cubicBezTo>
                      <a:cubicBezTo>
                        <a:pt x="1073" y="422"/>
                        <a:pt x="1079" y="431"/>
                        <a:pt x="1088" y="435"/>
                      </a:cubicBezTo>
                      <a:cubicBezTo>
                        <a:pt x="1161" y="472"/>
                        <a:pt x="1247" y="505"/>
                        <a:pt x="1328" y="519"/>
                      </a:cubicBezTo>
                      <a:cubicBezTo>
                        <a:pt x="1372" y="526"/>
                        <a:pt x="1422" y="530"/>
                        <a:pt x="1460" y="555"/>
                      </a:cubicBezTo>
                      <a:cubicBezTo>
                        <a:pt x="1470" y="586"/>
                        <a:pt x="1487" y="616"/>
                        <a:pt x="1502" y="645"/>
                      </a:cubicBezTo>
                      <a:cubicBezTo>
                        <a:pt x="1503" y="648"/>
                        <a:pt x="1498" y="641"/>
                        <a:pt x="1496" y="63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30" name="Picture 19" descr=""/>
            <p:cNvPicPr/>
            <p:nvPr/>
          </p:nvPicPr>
          <p:blipFill>
            <a:blip r:embed="rId19"/>
            <a:stretch/>
          </p:blipFill>
          <p:spPr>
            <a:xfrm>
              <a:off x="3630600" y="4227120"/>
              <a:ext cx="1617480" cy="221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35"/>
          <p:cNvSpPr/>
          <p:nvPr/>
        </p:nvSpPr>
        <p:spPr>
          <a:xfrm>
            <a:off x="378000" y="4454640"/>
            <a:ext cx="460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meriti i označiti površinu za prskanje npr. 10 x 10 m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 m²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70"/>
          <p:cNvGrpSpPr/>
          <p:nvPr/>
        </p:nvGrpSpPr>
        <p:grpSpPr>
          <a:xfrm>
            <a:off x="214200" y="2529000"/>
            <a:ext cx="2199960" cy="1267200"/>
            <a:chOff x="214200" y="2529000"/>
            <a:chExt cx="2199960" cy="1267200"/>
          </a:xfrm>
        </p:grpSpPr>
        <p:sp>
          <p:nvSpPr>
            <p:cNvPr id="433" name="Text Box 68"/>
            <p:cNvSpPr/>
            <p:nvPr/>
          </p:nvSpPr>
          <p:spPr>
            <a:xfrm>
              <a:off x="214200" y="3489120"/>
              <a:ext cx="219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ka za meren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69" descr=""/>
            <p:cNvPicPr/>
            <p:nvPr/>
          </p:nvPicPr>
          <p:blipFill>
            <a:blip r:embed="rId1"/>
            <a:stretch/>
          </p:blipFill>
          <p:spPr>
            <a:xfrm>
              <a:off x="378000" y="2529000"/>
              <a:ext cx="794520" cy="91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Group 71"/>
          <p:cNvGrpSpPr/>
          <p:nvPr/>
        </p:nvGrpSpPr>
        <p:grpSpPr>
          <a:xfrm>
            <a:off x="2646360" y="2349360"/>
            <a:ext cx="2069640" cy="1656000"/>
            <a:chOff x="2646360" y="2349360"/>
            <a:chExt cx="2069640" cy="1656000"/>
          </a:xfrm>
        </p:grpSpPr>
        <p:pic>
          <p:nvPicPr>
            <p:cNvPr id="436" name="Picture 72" descr="MCj03383820000[1]"/>
            <p:cNvPicPr/>
            <p:nvPr/>
          </p:nvPicPr>
          <p:blipFill>
            <a:blip r:embed="rId2"/>
            <a:stretch/>
          </p:blipFill>
          <p:spPr>
            <a:xfrm>
              <a:off x="2646360" y="2349360"/>
              <a:ext cx="102924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73"/>
            <p:cNvSpPr/>
            <p:nvPr/>
          </p:nvSpPr>
          <p:spPr>
            <a:xfrm>
              <a:off x="3462480" y="2349360"/>
              <a:ext cx="1253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ić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oliennummernplatzhalt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4CC6-E538-4648-BCA1-601AB4B90459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5352120" y="2126880"/>
            <a:ext cx="3240360" cy="3636720"/>
            <a:chOff x="5352120" y="2126880"/>
            <a:chExt cx="3240360" cy="3636720"/>
          </a:xfrm>
        </p:grpSpPr>
        <p:sp>
          <p:nvSpPr>
            <p:cNvPr id="441" name="Rectangle 5"/>
            <p:cNvSpPr/>
            <p:nvPr/>
          </p:nvSpPr>
          <p:spPr>
            <a:xfrm>
              <a:off x="5354640" y="2817720"/>
              <a:ext cx="2720880" cy="2945880"/>
            </a:xfrm>
            <a:prstGeom prst="rect">
              <a:avLst/>
            </a:prstGeom>
            <a:solidFill>
              <a:srgbClr val="51d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 m x 10 m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6"/>
            <p:cNvGrpSpPr/>
            <p:nvPr/>
          </p:nvGrpSpPr>
          <p:grpSpPr>
            <a:xfrm>
              <a:off x="5353200" y="2126880"/>
              <a:ext cx="520920" cy="696600"/>
              <a:chOff x="5353200" y="2126880"/>
              <a:chExt cx="520920" cy="696600"/>
            </a:xfrm>
          </p:grpSpPr>
          <p:sp>
            <p:nvSpPr>
              <p:cNvPr id="443" name="AutoShape 7"/>
              <p:cNvSpPr/>
              <p:nvPr/>
            </p:nvSpPr>
            <p:spPr>
              <a:xfrm rot="420000">
                <a:off x="5433480" y="2153160"/>
                <a:ext cx="420120" cy="36396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47160 h 363960"/>
                  <a:gd name="textAreaBottom" fmla="*/ 31680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8"/>
              <p:cNvSpPr/>
              <p:nvPr/>
            </p:nvSpPr>
            <p:spPr>
              <a:xfrm flipH="1">
                <a:off x="5353200" y="2126880"/>
                <a:ext cx="85320" cy="69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9"/>
            <p:cNvGrpSpPr/>
            <p:nvPr/>
          </p:nvGrpSpPr>
          <p:grpSpPr>
            <a:xfrm>
              <a:off x="8071560" y="5065200"/>
              <a:ext cx="520920" cy="696960"/>
              <a:chOff x="8071560" y="5065200"/>
              <a:chExt cx="520920" cy="696960"/>
            </a:xfrm>
          </p:grpSpPr>
          <p:sp>
            <p:nvSpPr>
              <p:cNvPr id="446" name="AutoShape 10"/>
              <p:cNvSpPr/>
              <p:nvPr/>
            </p:nvSpPr>
            <p:spPr>
              <a:xfrm rot="420000">
                <a:off x="8151840" y="5091480"/>
                <a:ext cx="420120" cy="36396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47160 h 363960"/>
                  <a:gd name="textAreaBottom" fmla="*/ 31680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1"/>
              <p:cNvSpPr/>
              <p:nvPr/>
            </p:nvSpPr>
            <p:spPr>
              <a:xfrm flipH="1">
                <a:off x="8071560" y="5065200"/>
                <a:ext cx="85320" cy="69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12"/>
            <p:cNvGrpSpPr/>
            <p:nvPr/>
          </p:nvGrpSpPr>
          <p:grpSpPr>
            <a:xfrm>
              <a:off x="5352120" y="5066640"/>
              <a:ext cx="520920" cy="696600"/>
              <a:chOff x="5352120" y="5066640"/>
              <a:chExt cx="520920" cy="696600"/>
            </a:xfrm>
          </p:grpSpPr>
          <p:sp>
            <p:nvSpPr>
              <p:cNvPr id="449" name="AutoShape 13"/>
              <p:cNvSpPr/>
              <p:nvPr/>
            </p:nvSpPr>
            <p:spPr>
              <a:xfrm rot="420000">
                <a:off x="5432400" y="5092920"/>
                <a:ext cx="420120" cy="36396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47160 h 363960"/>
                  <a:gd name="textAreaBottom" fmla="*/ 31680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4"/>
              <p:cNvSpPr/>
              <p:nvPr/>
            </p:nvSpPr>
            <p:spPr>
              <a:xfrm flipH="1">
                <a:off x="5352120" y="5066640"/>
                <a:ext cx="85320" cy="69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15"/>
            <p:cNvGrpSpPr/>
            <p:nvPr/>
          </p:nvGrpSpPr>
          <p:grpSpPr>
            <a:xfrm>
              <a:off x="8071560" y="2141280"/>
              <a:ext cx="520920" cy="696600"/>
              <a:chOff x="8071560" y="2141280"/>
              <a:chExt cx="520920" cy="696600"/>
            </a:xfrm>
          </p:grpSpPr>
          <p:sp>
            <p:nvSpPr>
              <p:cNvPr id="452" name="AutoShape 16"/>
              <p:cNvSpPr/>
              <p:nvPr/>
            </p:nvSpPr>
            <p:spPr>
              <a:xfrm rot="420000">
                <a:off x="8151840" y="2167560"/>
                <a:ext cx="420120" cy="363960"/>
              </a:xfrm>
              <a:custGeom>
                <a:avLst/>
                <a:gdLst>
                  <a:gd name="textAreaLeft" fmla="*/ 0 w 420120"/>
                  <a:gd name="textAreaRight" fmla="*/ 420480 w 420120"/>
                  <a:gd name="textAreaTop" fmla="*/ 47160 h 363960"/>
                  <a:gd name="textAreaBottom" fmla="*/ 316800 h 36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7"/>
              <p:cNvSpPr/>
              <p:nvPr/>
            </p:nvSpPr>
            <p:spPr>
              <a:xfrm flipH="1">
                <a:off x="8071560" y="2141280"/>
                <a:ext cx="85320" cy="69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Text Box 45"/>
          <p:cNvSpPr/>
          <p:nvPr/>
        </p:nvSpPr>
        <p:spPr>
          <a:xfrm>
            <a:off x="1090440" y="1500120"/>
            <a:ext cx="71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ko površine koja se tre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2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56" name="Rectangle 26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7" name="Picture 4" descr="C:\Users\marinal3\Desktop\logo SECPA.jpg"/>
            <p:cNvPicPr/>
            <p:nvPr/>
          </p:nvPicPr>
          <p:blipFill>
            <a:blip r:embed="rId3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5"/>
          <p:cNvSpPr/>
          <p:nvPr/>
        </p:nvSpPr>
        <p:spPr>
          <a:xfrm>
            <a:off x="179280" y="2154240"/>
            <a:ext cx="829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2) Napuniti rezervoar prskalice sa određenom količinom čiste vode, npr. 15 litara i prskati po označenoj površini uobičajenom brzinom normalnog ho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liennummernplatzhalt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6888-09E1-4284-9A08-3E2E3B01509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"/>
          <p:cNvGrpSpPr/>
          <p:nvPr/>
        </p:nvGrpSpPr>
        <p:grpSpPr>
          <a:xfrm>
            <a:off x="6300720" y="3419640"/>
            <a:ext cx="2813040" cy="2863800"/>
            <a:chOff x="6300720" y="3419640"/>
            <a:chExt cx="2813040" cy="2863800"/>
          </a:xfrm>
        </p:grpSpPr>
        <p:grpSp>
          <p:nvGrpSpPr>
            <p:cNvPr id="461" name="Group 6"/>
            <p:cNvGrpSpPr/>
            <p:nvPr/>
          </p:nvGrpSpPr>
          <p:grpSpPr>
            <a:xfrm>
              <a:off x="6300720" y="3419640"/>
              <a:ext cx="2813040" cy="2863800"/>
              <a:chOff x="6300720" y="3419640"/>
              <a:chExt cx="2813040" cy="2863800"/>
            </a:xfrm>
          </p:grpSpPr>
          <p:pic>
            <p:nvPicPr>
              <p:cNvPr id="462" name="Picture 7" descr="LOK-cali-C"/>
              <p:cNvPicPr/>
              <p:nvPr/>
            </p:nvPicPr>
            <p:blipFill>
              <a:blip r:embed="rId1"/>
              <a:stretch/>
            </p:blipFill>
            <p:spPr>
              <a:xfrm>
                <a:off x="6300720" y="3419640"/>
                <a:ext cx="2813040" cy="2863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3" name="Group 8"/>
              <p:cNvGrpSpPr/>
              <p:nvPr/>
            </p:nvGrpSpPr>
            <p:grpSpPr>
              <a:xfrm>
                <a:off x="6300720" y="3419640"/>
                <a:ext cx="2598840" cy="1740240"/>
                <a:chOff x="6300720" y="3419640"/>
                <a:chExt cx="2598840" cy="1740240"/>
              </a:xfrm>
            </p:grpSpPr>
            <p:sp>
              <p:nvSpPr>
                <p:cNvPr id="464" name="Rectangle 9"/>
                <p:cNvSpPr/>
                <p:nvPr/>
              </p:nvSpPr>
              <p:spPr>
                <a:xfrm>
                  <a:off x="6300720" y="3419640"/>
                  <a:ext cx="361800" cy="33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0"/>
                <p:cNvSpPr/>
                <p:nvPr/>
              </p:nvSpPr>
              <p:spPr>
                <a:xfrm>
                  <a:off x="8035920" y="4487760"/>
                  <a:ext cx="863640" cy="67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Rectangle 11"/>
            <p:cNvSpPr/>
            <p:nvPr/>
          </p:nvSpPr>
          <p:spPr>
            <a:xfrm>
              <a:off x="7814160" y="3750840"/>
              <a:ext cx="22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7813800" y="3732120"/>
            <a:ext cx="13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ivo 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2"/>
          <p:cNvSpPr/>
          <p:nvPr/>
        </p:nvSpPr>
        <p:spPr>
          <a:xfrm flipH="1">
            <a:off x="7470720" y="3995640"/>
            <a:ext cx="47304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5" descr=""/>
          <p:cNvPicPr/>
          <p:nvPr/>
        </p:nvPicPr>
        <p:blipFill>
          <a:blip r:embed="rId2"/>
          <a:stretch/>
        </p:blipFill>
        <p:spPr>
          <a:xfrm>
            <a:off x="3311640" y="2978280"/>
            <a:ext cx="3073320" cy="33051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4" descr="Swathmaster 22 close up"/>
          <p:cNvPicPr/>
          <p:nvPr/>
        </p:nvPicPr>
        <p:blipFill>
          <a:blip r:embed="rId3"/>
          <a:stretch/>
        </p:blipFill>
        <p:spPr>
          <a:xfrm>
            <a:off x="220680" y="4290840"/>
            <a:ext cx="2789280" cy="1738440"/>
          </a:xfrm>
          <a:prstGeom prst="rect">
            <a:avLst/>
          </a:prstGeom>
          <a:ln w="25560">
            <a:solidFill>
              <a:srgbClr val="000000">
                <a:alpha val="97000"/>
              </a:srgbClr>
            </a:solidFill>
            <a:miter/>
          </a:ln>
        </p:spPr>
      </p:pic>
      <p:sp>
        <p:nvSpPr>
          <p:cNvPr id="472" name="Text Box 5"/>
          <p:cNvSpPr/>
          <p:nvPr/>
        </p:nvSpPr>
        <p:spPr>
          <a:xfrm>
            <a:off x="220680" y="2914560"/>
            <a:ext cx="27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Većina dizni ima optimalnu visinu od 50 cm u radu, a pri tome radna širina zahvata je 50 c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6"/>
          <p:cNvSpPr/>
          <p:nvPr/>
        </p:nvSpPr>
        <p:spPr>
          <a:xfrm>
            <a:off x="2211480" y="5535720"/>
            <a:ext cx="8078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Šir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7"/>
          <p:cNvSpPr/>
          <p:nvPr/>
        </p:nvSpPr>
        <p:spPr>
          <a:xfrm>
            <a:off x="309600" y="482436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Vis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1090440" y="1500120"/>
            <a:ext cx="71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ko površine koja se tret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19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77" name="Rectangle 20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4" descr="C:\Users\marinal3\Desktop\logo SECPA.jpg"/>
            <p:cNvPicPr/>
            <p:nvPr/>
          </p:nvPicPr>
          <p:blipFill>
            <a:blip r:embed="rId4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5"/>
          <p:cNvSpPr/>
          <p:nvPr/>
        </p:nvSpPr>
        <p:spPr>
          <a:xfrm>
            <a:off x="108000" y="3146400"/>
            <a:ext cx="46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3)  Nakon prskanje po obeleženoj površini, izmeriti količinu vode koje je utrošena, kao razliku količine koja je pre prskanja sipana u rezervoar i količine koja nakon prskanja ostane u rezervoa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74"/>
          <p:cNvGrpSpPr/>
          <p:nvPr/>
        </p:nvGrpSpPr>
        <p:grpSpPr>
          <a:xfrm>
            <a:off x="4140360" y="1844640"/>
            <a:ext cx="2071080" cy="1068480"/>
            <a:chOff x="4140360" y="1844640"/>
            <a:chExt cx="2071080" cy="1068480"/>
          </a:xfrm>
        </p:grpSpPr>
        <p:pic>
          <p:nvPicPr>
            <p:cNvPr id="481" name="Picture 75" descr="MPj04393930000[1]"/>
            <p:cNvPicPr/>
            <p:nvPr/>
          </p:nvPicPr>
          <p:blipFill>
            <a:blip r:embed="rId1"/>
            <a:stretch/>
          </p:blipFill>
          <p:spPr>
            <a:xfrm>
              <a:off x="4140360" y="2049480"/>
              <a:ext cx="7858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76"/>
            <p:cNvSpPr/>
            <p:nvPr/>
          </p:nvSpPr>
          <p:spPr>
            <a:xfrm>
              <a:off x="4354200" y="1844640"/>
              <a:ext cx="18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eska za beleš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0"/>
          <p:cNvGrpSpPr/>
          <p:nvPr/>
        </p:nvGrpSpPr>
        <p:grpSpPr>
          <a:xfrm>
            <a:off x="673200" y="1879560"/>
            <a:ext cx="1071360" cy="807120"/>
            <a:chOff x="673200" y="1879560"/>
            <a:chExt cx="1071360" cy="807120"/>
          </a:xfrm>
        </p:grpSpPr>
        <p:pic>
          <p:nvPicPr>
            <p:cNvPr id="484" name="Picture 81" descr="MCj04395930000[1]"/>
            <p:cNvPicPr/>
            <p:nvPr/>
          </p:nvPicPr>
          <p:blipFill>
            <a:blip r:embed="rId2"/>
            <a:stretch/>
          </p:blipFill>
          <p:spPr>
            <a:xfrm>
              <a:off x="780120" y="1879560"/>
              <a:ext cx="781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82"/>
            <p:cNvSpPr/>
            <p:nvPr/>
          </p:nvSpPr>
          <p:spPr>
            <a:xfrm>
              <a:off x="673200" y="237960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it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Foliennummernplatzhalt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CC87-6BAB-4A41-A3DF-024E9884638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5" descr="LOK-cali-D"/>
          <p:cNvPicPr/>
          <p:nvPr/>
        </p:nvPicPr>
        <p:blipFill>
          <a:blip r:embed="rId3"/>
          <a:stretch/>
        </p:blipFill>
        <p:spPr>
          <a:xfrm>
            <a:off x="5013360" y="2816280"/>
            <a:ext cx="3914640" cy="35589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15"/>
          <p:cNvSpPr/>
          <p:nvPr/>
        </p:nvSpPr>
        <p:spPr>
          <a:xfrm>
            <a:off x="7229520" y="2816280"/>
            <a:ext cx="167652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Količina vode koje je potrošena za prskanje obeležene površ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 flipV="1">
            <a:off x="6680160" y="3355560"/>
            <a:ext cx="549360" cy="180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 flipH="1">
            <a:off x="6680160" y="3887640"/>
            <a:ext cx="549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7221600" y="3362400"/>
            <a:ext cx="0" cy="446040"/>
          </a:xfrm>
          <a:prstGeom prst="line">
            <a:avLst/>
          </a:prstGeom>
          <a:ln w="38160">
            <a:solidFill>
              <a:srgbClr val="0000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36"/>
          <p:cNvGrpSpPr/>
          <p:nvPr/>
        </p:nvGrpSpPr>
        <p:grpSpPr>
          <a:xfrm>
            <a:off x="1503360" y="4251240"/>
            <a:ext cx="3509640" cy="2444760"/>
            <a:chOff x="1503360" y="4251240"/>
            <a:chExt cx="3509640" cy="2444760"/>
          </a:xfrm>
        </p:grpSpPr>
        <p:sp>
          <p:nvSpPr>
            <p:cNvPr id="494" name="Text 273"/>
            <p:cNvSpPr/>
            <p:nvPr/>
          </p:nvSpPr>
          <p:spPr>
            <a:xfrm>
              <a:off x="2384280" y="5976720"/>
              <a:ext cx="2405880" cy="719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troš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8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280"/>
            <p:cNvSpPr/>
            <p:nvPr/>
          </p:nvSpPr>
          <p:spPr>
            <a:xfrm>
              <a:off x="1503360" y="5037120"/>
              <a:ext cx="801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273"/>
            <p:cNvSpPr/>
            <p:nvPr/>
          </p:nvSpPr>
          <p:spPr>
            <a:xfrm>
              <a:off x="2384280" y="4251240"/>
              <a:ext cx="2405880" cy="719280"/>
            </a:xfrm>
            <a:prstGeom prst="rect">
              <a:avLst/>
            </a:prstGeom>
            <a:solidFill>
              <a:srgbClr val="00ffff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na kolč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1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273"/>
            <p:cNvSpPr/>
            <p:nvPr/>
          </p:nvSpPr>
          <p:spPr>
            <a:xfrm>
              <a:off x="2384280" y="5038560"/>
              <a:ext cx="2405880" cy="71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stalo posle prsk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35"/>
            <p:cNvSpPr/>
            <p:nvPr/>
          </p:nvSpPr>
          <p:spPr>
            <a:xfrm>
              <a:off x="2238840" y="5879880"/>
              <a:ext cx="2774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83"/>
          <p:cNvGrpSpPr/>
          <p:nvPr/>
        </p:nvGrpSpPr>
        <p:grpSpPr>
          <a:xfrm>
            <a:off x="1903320" y="1706400"/>
            <a:ext cx="2006640" cy="1345320"/>
            <a:chOff x="1903320" y="1706400"/>
            <a:chExt cx="2006640" cy="1345320"/>
          </a:xfrm>
        </p:grpSpPr>
        <p:pic>
          <p:nvPicPr>
            <p:cNvPr id="500" name="Picture 84" descr=""/>
            <p:cNvPicPr/>
            <p:nvPr/>
          </p:nvPicPr>
          <p:blipFill>
            <a:blip r:embed="rId4"/>
            <a:stretch/>
          </p:blipFill>
          <p:spPr>
            <a:xfrm>
              <a:off x="2046240" y="1706400"/>
              <a:ext cx="1433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85"/>
            <p:cNvSpPr/>
            <p:nvPr/>
          </p:nvSpPr>
          <p:spPr>
            <a:xfrm>
              <a:off x="1903320" y="2714400"/>
              <a:ext cx="20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ne posud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24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03" name="Rectangle 25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4" name="Picture 4" descr="C:\Users\marinal3\Desktop\logo SECPA.jpg"/>
            <p:cNvPicPr/>
            <p:nvPr/>
          </p:nvPicPr>
          <p:blipFill>
            <a:blip r:embed="rId5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8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06" name="Rectangle 29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Group 80"/>
          <p:cNvGrpSpPr/>
          <p:nvPr/>
        </p:nvGrpSpPr>
        <p:grpSpPr>
          <a:xfrm>
            <a:off x="755640" y="2529000"/>
            <a:ext cx="1871640" cy="1243080"/>
            <a:chOff x="755640" y="2529000"/>
            <a:chExt cx="1871640" cy="1243080"/>
          </a:xfrm>
        </p:grpSpPr>
        <p:pic>
          <p:nvPicPr>
            <p:cNvPr id="509" name="Picture 81" descr="MCj04395930000[1]"/>
            <p:cNvPicPr/>
            <p:nvPr/>
          </p:nvPicPr>
          <p:blipFill>
            <a:blip r:embed="rId2"/>
            <a:stretch/>
          </p:blipFill>
          <p:spPr>
            <a:xfrm>
              <a:off x="942840" y="2529000"/>
              <a:ext cx="136512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82"/>
            <p:cNvSpPr/>
            <p:nvPr/>
          </p:nvSpPr>
          <p:spPr>
            <a:xfrm>
              <a:off x="755640" y="346500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it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Foliennummernplatzhalt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FB9-32D1-41DB-A894-AA01768AE60F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40"/>
          <p:cNvGrpSpPr/>
          <p:nvPr/>
        </p:nvGrpSpPr>
        <p:grpSpPr>
          <a:xfrm>
            <a:off x="369720" y="4869000"/>
            <a:ext cx="7370640" cy="1757160"/>
            <a:chOff x="369720" y="4869000"/>
            <a:chExt cx="7370640" cy="1757160"/>
          </a:xfrm>
        </p:grpSpPr>
        <p:sp>
          <p:nvSpPr>
            <p:cNvPr id="514" name="Text 273"/>
            <p:cNvSpPr/>
            <p:nvPr/>
          </p:nvSpPr>
          <p:spPr>
            <a:xfrm>
              <a:off x="374400" y="4869000"/>
              <a:ext cx="215892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trošena količina v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8 </a:t>
              </a:r>
              <a:r>
                <a:rPr b="1" lang="sr-Latn-R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273"/>
            <p:cNvSpPr/>
            <p:nvPr/>
          </p:nvSpPr>
          <p:spPr>
            <a:xfrm>
              <a:off x="3252600" y="4869000"/>
              <a:ext cx="242244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ršina od 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  <a:ea typeface="Arial"/>
                </a:rPr>
                <a:t>10</a:t>
              </a:r>
              <a:r>
                <a:rPr b="1" lang="sr-Latn-RS" sz="2000" spc="-1" strike="noStrike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  <a:ea typeface="Arial"/>
                </a:rPr>
                <a:t>000 m</a:t>
              </a:r>
              <a:r>
                <a:rPr b="1" lang="en-US" sz="20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280"/>
            <p:cNvSpPr/>
            <p:nvPr/>
          </p:nvSpPr>
          <p:spPr>
            <a:xfrm>
              <a:off x="2531880" y="5006880"/>
              <a:ext cx="719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280"/>
            <p:cNvSpPr/>
            <p:nvPr/>
          </p:nvSpPr>
          <p:spPr>
            <a:xfrm>
              <a:off x="5829120" y="4916520"/>
              <a:ext cx="360360" cy="16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273"/>
            <p:cNvSpPr/>
            <p:nvPr/>
          </p:nvSpPr>
          <p:spPr>
            <a:xfrm>
              <a:off x="1241280" y="5905440"/>
              <a:ext cx="255276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tirana površ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 m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280"/>
            <p:cNvSpPr/>
            <p:nvPr/>
          </p:nvSpPr>
          <p:spPr>
            <a:xfrm>
              <a:off x="6333840" y="4971960"/>
              <a:ext cx="1406520" cy="16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800</a:t>
              </a:r>
              <a:r>
                <a:rPr b="1" lang="sr-Latn-R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l/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9"/>
            <p:cNvSpPr/>
            <p:nvPr/>
          </p:nvSpPr>
          <p:spPr>
            <a:xfrm flipV="1">
              <a:off x="369720" y="5781240"/>
              <a:ext cx="5305320" cy="2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4"/>
          <p:cNvGrpSpPr/>
          <p:nvPr/>
        </p:nvGrpSpPr>
        <p:grpSpPr>
          <a:xfrm>
            <a:off x="6120360" y="1833480"/>
            <a:ext cx="2793600" cy="3026880"/>
            <a:chOff x="6120360" y="1833480"/>
            <a:chExt cx="2793600" cy="3026880"/>
          </a:xfrm>
        </p:grpSpPr>
        <p:sp>
          <p:nvSpPr>
            <p:cNvPr id="522" name="Rectangle 5"/>
            <p:cNvSpPr/>
            <p:nvPr/>
          </p:nvSpPr>
          <p:spPr>
            <a:xfrm>
              <a:off x="6121440" y="2409120"/>
              <a:ext cx="2347920" cy="2451240"/>
            </a:xfrm>
            <a:prstGeom prst="rect">
              <a:avLst/>
            </a:prstGeom>
            <a:solidFill>
              <a:srgbClr val="51d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sr-Latn-R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m x 10</a:t>
              </a:r>
              <a:r>
                <a:rPr b="0" lang="sr-Latn-R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m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sr-Latn-RS" sz="4800" spc="-1" strike="noStrike">
                  <a:solidFill>
                    <a:srgbClr val="000000"/>
                  </a:solidFill>
                  <a:latin typeface="Arial"/>
                </a:rPr>
                <a:t> h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Group 6"/>
            <p:cNvGrpSpPr/>
            <p:nvPr/>
          </p:nvGrpSpPr>
          <p:grpSpPr>
            <a:xfrm>
              <a:off x="6121440" y="1833480"/>
              <a:ext cx="446400" cy="579600"/>
              <a:chOff x="6121440" y="1833480"/>
              <a:chExt cx="446400" cy="579600"/>
            </a:xfrm>
          </p:grpSpPr>
          <p:sp>
            <p:nvSpPr>
              <p:cNvPr id="524" name="AutoShape 7"/>
              <p:cNvSpPr/>
              <p:nvPr/>
            </p:nvSpPr>
            <p:spPr>
              <a:xfrm rot="420000">
                <a:off x="6188400" y="1856160"/>
                <a:ext cx="362520" cy="302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9240 h 302760"/>
                  <a:gd name="textAreaBottom" fmla="*/ 26352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8"/>
              <p:cNvSpPr/>
              <p:nvPr/>
            </p:nvSpPr>
            <p:spPr>
              <a:xfrm flipH="1">
                <a:off x="6121440" y="1833480"/>
                <a:ext cx="71280" cy="57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9"/>
            <p:cNvGrpSpPr/>
            <p:nvPr/>
          </p:nvGrpSpPr>
          <p:grpSpPr>
            <a:xfrm>
              <a:off x="8467560" y="4278600"/>
              <a:ext cx="446400" cy="579600"/>
              <a:chOff x="8467560" y="4278600"/>
              <a:chExt cx="446400" cy="579600"/>
            </a:xfrm>
          </p:grpSpPr>
          <p:sp>
            <p:nvSpPr>
              <p:cNvPr id="527" name="AutoShape 10"/>
              <p:cNvSpPr/>
              <p:nvPr/>
            </p:nvSpPr>
            <p:spPr>
              <a:xfrm rot="420000">
                <a:off x="8534520" y="4301280"/>
                <a:ext cx="362520" cy="302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9240 h 302760"/>
                  <a:gd name="textAreaBottom" fmla="*/ 26352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1"/>
              <p:cNvSpPr/>
              <p:nvPr/>
            </p:nvSpPr>
            <p:spPr>
              <a:xfrm flipH="1">
                <a:off x="8467560" y="4278600"/>
                <a:ext cx="71280" cy="57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2"/>
            <p:cNvGrpSpPr/>
            <p:nvPr/>
          </p:nvGrpSpPr>
          <p:grpSpPr>
            <a:xfrm>
              <a:off x="6120360" y="4280040"/>
              <a:ext cx="446400" cy="579600"/>
              <a:chOff x="6120360" y="4280040"/>
              <a:chExt cx="446400" cy="579600"/>
            </a:xfrm>
          </p:grpSpPr>
          <p:sp>
            <p:nvSpPr>
              <p:cNvPr id="530" name="AutoShape 13"/>
              <p:cNvSpPr/>
              <p:nvPr/>
            </p:nvSpPr>
            <p:spPr>
              <a:xfrm rot="420000">
                <a:off x="6187320" y="4302720"/>
                <a:ext cx="362520" cy="302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9240 h 302760"/>
                  <a:gd name="textAreaBottom" fmla="*/ 26352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4"/>
              <p:cNvSpPr/>
              <p:nvPr/>
            </p:nvSpPr>
            <p:spPr>
              <a:xfrm flipH="1">
                <a:off x="6120360" y="4280040"/>
                <a:ext cx="71280" cy="57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5"/>
            <p:cNvGrpSpPr/>
            <p:nvPr/>
          </p:nvGrpSpPr>
          <p:grpSpPr>
            <a:xfrm>
              <a:off x="8467560" y="1845360"/>
              <a:ext cx="446400" cy="579600"/>
              <a:chOff x="8467560" y="1845360"/>
              <a:chExt cx="446400" cy="579600"/>
            </a:xfrm>
          </p:grpSpPr>
          <p:sp>
            <p:nvSpPr>
              <p:cNvPr id="533" name="AutoShape 16"/>
              <p:cNvSpPr/>
              <p:nvPr/>
            </p:nvSpPr>
            <p:spPr>
              <a:xfrm rot="420000">
                <a:off x="8534520" y="1868040"/>
                <a:ext cx="362520" cy="302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9240 h 302760"/>
                  <a:gd name="textAreaBottom" fmla="*/ 263520 h 30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764700"/>
                  </a:gs>
                  <a:gs pos="100000">
                    <a:srgbClr val="ff99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7"/>
              <p:cNvSpPr/>
              <p:nvPr/>
            </p:nvSpPr>
            <p:spPr>
              <a:xfrm flipH="1">
                <a:off x="8467560" y="1845360"/>
                <a:ext cx="71280" cy="57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1"/>
          <p:cNvSpPr/>
          <p:nvPr/>
        </p:nvSpPr>
        <p:spPr>
          <a:xfrm>
            <a:off x="6553080" y="6593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EF2-9B8C-485E-96AB-116FEAC454E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39680" y="2881440"/>
            <a:ext cx="37846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98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Izmeriti vreme potrebno da se pređe određeno rastojanje, npr. 20 m za 30 sec pri prskanju širine jednog zahvata dizne (50 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Speed"/>
          <p:cNvPicPr/>
          <p:nvPr/>
        </p:nvPicPr>
        <p:blipFill>
          <a:blip r:embed="rId1"/>
          <a:stretch/>
        </p:blipFill>
        <p:spPr>
          <a:xfrm>
            <a:off x="4579920" y="3086280"/>
            <a:ext cx="4276800" cy="2149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walking speed2 "/>
          <p:cNvPicPr/>
          <p:nvPr/>
        </p:nvPicPr>
        <p:blipFill>
          <a:blip r:embed="rId2"/>
          <a:stretch/>
        </p:blipFill>
        <p:spPr>
          <a:xfrm>
            <a:off x="5651640" y="3063960"/>
            <a:ext cx="1234800" cy="15336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5"/>
          <p:cNvSpPr/>
          <p:nvPr/>
        </p:nvSpPr>
        <p:spPr>
          <a:xfrm>
            <a:off x="598320" y="5516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Brzina kretanje je (20 m / 30 sec) x 3,6 = 2,4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5"/>
          <p:cNvSpPr/>
          <p:nvPr/>
        </p:nvSpPr>
        <p:spPr>
          <a:xfrm>
            <a:off x="971640" y="1500120"/>
            <a:ext cx="71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ko brzine kretanja radnika (operat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8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43" name="Rectangle 9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4" descr="C:\Users\marinal3\Desktop\logo SECPA.jpg"/>
            <p:cNvPicPr/>
            <p:nvPr/>
          </p:nvPicPr>
          <p:blipFill>
            <a:blip r:embed="rId3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4B76-BC55-48FA-B3FC-485FDD8FC57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3778200" y="5645160"/>
            <a:ext cx="180036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,4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2589120" y="4365720"/>
            <a:ext cx="180504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roj diz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346640"/>
            <a:ext cx="177012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a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7242120" y="4975200"/>
            <a:ext cx="180036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oličina 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800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l/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0"/>
          <p:cNvSpPr/>
          <p:nvPr/>
        </p:nvSpPr>
        <p:spPr>
          <a:xfrm>
            <a:off x="1190520" y="5645160"/>
            <a:ext cx="180036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Širina zahv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0,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3222720" y="5645160"/>
            <a:ext cx="36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2228760" y="4384800"/>
            <a:ext cx="36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4394160" y="4384800"/>
            <a:ext cx="36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338040" y="4384800"/>
            <a:ext cx="1800360" cy="900000"/>
          </a:xfrm>
          <a:prstGeom prst="rect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otok di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1,6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6554880" y="4384800"/>
            <a:ext cx="71892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6"/>
          <p:cNvSpPr/>
          <p:nvPr/>
        </p:nvSpPr>
        <p:spPr>
          <a:xfrm>
            <a:off x="428760" y="5284800"/>
            <a:ext cx="6126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7"/>
          <p:cNvSpPr/>
          <p:nvPr/>
        </p:nvSpPr>
        <p:spPr>
          <a:xfrm>
            <a:off x="428760" y="5452920"/>
            <a:ext cx="61261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835280" y="234936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2. Prskati iz prskalice u graduisanu posudu i izmeriti količinu vode koja se izbaci za 1 minut. Npr. za 1 min se izbaci 1600 ml vode. To je protok di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0" descr=""/>
          <p:cNvPicPr/>
          <p:nvPr/>
        </p:nvPicPr>
        <p:blipFill>
          <a:blip r:embed="rId1"/>
          <a:stretch/>
        </p:blipFill>
        <p:spPr>
          <a:xfrm>
            <a:off x="428760" y="1773360"/>
            <a:ext cx="1261800" cy="242568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5"/>
          <p:cNvSpPr/>
          <p:nvPr/>
        </p:nvSpPr>
        <p:spPr>
          <a:xfrm>
            <a:off x="971640" y="1500120"/>
            <a:ext cx="71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ko brzine kretanja radnika (operat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63" name="Rectangle 20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0E1-8B9F-44E4-A57C-AC30E8D0B35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50920" y="2421000"/>
          <a:ext cx="8585280" cy="4254480"/>
        </p:xfrm>
        <a:graphic>
          <a:graphicData uri="http://schemas.openxmlformats.org/drawingml/2006/table">
            <a:tbl>
              <a:tblPr/>
              <a:tblGrid>
                <a:gridCol w="4292640"/>
                <a:gridCol w="4292640"/>
              </a:tblGrid>
              <a:tr h="8960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29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bi POVEĆALI         količinu rastvo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Aft>
                          <a:spcPts val="29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bi UMANJILI           količinu rastvo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Veće diz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ja veličina diz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Veći 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ji 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anja brzina kre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će brzina kre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16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anji (uži) radni zah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10000"/>
                        </a:lnSpc>
                        <a:spcAft>
                          <a:spcPts val="25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eći (širi) radni zah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3"/>
          <p:cNvSpPr/>
          <p:nvPr/>
        </p:nvSpPr>
        <p:spPr>
          <a:xfrm>
            <a:off x="179280" y="1585800"/>
            <a:ext cx="88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Arial"/>
              </a:rPr>
              <a:t>Ka</a:t>
            </a:r>
            <a:r>
              <a:rPr b="0" lang="sr-Latn-RS" sz="2800" spc="-1" strike="noStrike">
                <a:solidFill>
                  <a:srgbClr val="00b050"/>
                </a:solidFill>
                <a:latin typeface="Arial"/>
                <a:ea typeface="Arial"/>
              </a:rPr>
              <a:t>ko je moguće uticati na količinu tečnosti za pri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4071960" y="179532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ti koliko preparata je potrebno staviti u rezervoar leđne prsk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18B-3E3E-4845-BA74-165A0F696029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"/>
          <p:cNvSpPr/>
          <p:nvPr/>
        </p:nvSpPr>
        <p:spPr>
          <a:xfrm>
            <a:off x="250920" y="1595520"/>
            <a:ext cx="604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1863720" y="2997360"/>
            <a:ext cx="3551400" cy="320976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5148360" y="2995560"/>
            <a:ext cx="5760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7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76" name="Rectangle 9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273"/>
          <p:cNvSpPr/>
          <p:nvPr/>
        </p:nvSpPr>
        <p:spPr>
          <a:xfrm>
            <a:off x="376200" y="4595760"/>
            <a:ext cx="1913040" cy="6508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eporučena do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0,2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L / 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280"/>
          <p:cNvSpPr/>
          <p:nvPr/>
        </p:nvSpPr>
        <p:spPr>
          <a:xfrm>
            <a:off x="2376360" y="4618080"/>
            <a:ext cx="357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273"/>
          <p:cNvSpPr/>
          <p:nvPr/>
        </p:nvSpPr>
        <p:spPr>
          <a:xfrm>
            <a:off x="2733840" y="4576680"/>
            <a:ext cx="1915920" cy="6526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Zapremina rezervo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280"/>
          <p:cNvSpPr/>
          <p:nvPr/>
        </p:nvSpPr>
        <p:spPr>
          <a:xfrm>
            <a:off x="6202440" y="4937040"/>
            <a:ext cx="318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273"/>
          <p:cNvSpPr/>
          <p:nvPr/>
        </p:nvSpPr>
        <p:spPr>
          <a:xfrm>
            <a:off x="2487600" y="5362560"/>
            <a:ext cx="2085840" cy="6955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Zapremina potrebnog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00 L 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280"/>
          <p:cNvSpPr/>
          <p:nvPr/>
        </p:nvSpPr>
        <p:spPr>
          <a:xfrm>
            <a:off x="6521400" y="4792680"/>
            <a:ext cx="107496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4,6 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1"/>
          <p:cNvSpPr/>
          <p:nvPr/>
        </p:nvSpPr>
        <p:spPr>
          <a:xfrm>
            <a:off x="376200" y="5295960"/>
            <a:ext cx="583884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2"/>
          <p:cNvSpPr/>
          <p:nvPr/>
        </p:nvSpPr>
        <p:spPr>
          <a:xfrm>
            <a:off x="2928960" y="3970440"/>
            <a:ext cx="1549440" cy="357120"/>
          </a:xfrm>
          <a:prstGeom prst="wedgeRoundRectCallout">
            <a:avLst>
              <a:gd name="adj1" fmla="val 32013"/>
              <a:gd name="adj2" fmla="val 95643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Izme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4"/>
          <p:cNvSpPr/>
          <p:nvPr/>
        </p:nvSpPr>
        <p:spPr>
          <a:xfrm>
            <a:off x="360360" y="3835440"/>
            <a:ext cx="1703520" cy="473040"/>
          </a:xfrm>
          <a:prstGeom prst="wedgeRoundRectCallout">
            <a:avLst>
              <a:gd name="adj1" fmla="val -1037"/>
              <a:gd name="adj2" fmla="val 106763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Na etiketi 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9"/>
          <p:cNvSpPr/>
          <p:nvPr/>
        </p:nvSpPr>
        <p:spPr>
          <a:xfrm>
            <a:off x="6215040" y="4071960"/>
            <a:ext cx="1703520" cy="419040"/>
          </a:xfrm>
          <a:prstGeom prst="wedgeRoundRectCallout">
            <a:avLst>
              <a:gd name="adj1" fmla="val -837"/>
              <a:gd name="adj2" fmla="val 133296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6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 u rezervo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938160" y="5619600"/>
            <a:ext cx="1352520" cy="452520"/>
          </a:xfrm>
          <a:prstGeom prst="wedgeRoundRectCallout">
            <a:avLst>
              <a:gd name="adj1" fmla="val 75708"/>
              <a:gd name="adj2" fmla="val -39856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Kalibris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503280" y="2143080"/>
            <a:ext cx="81406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reporuka na etike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oristiti 0,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/ha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(250 ml/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alibrisana količina v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800 L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/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Zapremina rezervoara leđne prskalice: 15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Na osnovu formule isp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potrebna količina preparata u rezervoaru od 15 l 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4,6 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1857240" y="15001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poruka na etik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oristiti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/ha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/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liennummernplatzhalter 19"/>
          <p:cNvSpPr/>
          <p:nvPr/>
        </p:nvSpPr>
        <p:spPr>
          <a:xfrm>
            <a:off x="6461280" y="6308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1C0-ED98-4EF2-9334-78575716FF0F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2928960" y="1071720"/>
            <a:ext cx="31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280"/>
          <p:cNvSpPr/>
          <p:nvPr/>
        </p:nvSpPr>
        <p:spPr>
          <a:xfrm>
            <a:off x="4710240" y="4557600"/>
            <a:ext cx="3571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273"/>
          <p:cNvSpPr/>
          <p:nvPr/>
        </p:nvSpPr>
        <p:spPr>
          <a:xfrm>
            <a:off x="5056200" y="4576680"/>
            <a:ext cx="1033560" cy="6526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18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96" name="Rectangle 20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4" name="AutoShape 23"/>
          <p:cNvCxnSpPr/>
          <p:nvPr/>
        </p:nvCxnSpPr>
        <p:spPr>
          <a:xfrm flipH="1" rot="16200000">
            <a:off x="8167320" y="36183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pSp>
        <p:nvGrpSpPr>
          <p:cNvPr id="335" name="Group 29"/>
          <p:cNvGrpSpPr/>
          <p:nvPr/>
        </p:nvGrpSpPr>
        <p:grpSpPr>
          <a:xfrm>
            <a:off x="231840" y="1920600"/>
            <a:ext cx="1146240" cy="730440"/>
            <a:chOff x="231840" y="1920600"/>
            <a:chExt cx="1146240" cy="730440"/>
          </a:xfrm>
        </p:grpSpPr>
        <p:sp>
          <p:nvSpPr>
            <p:cNvPr id="336" name="Text Box 30"/>
            <p:cNvSpPr/>
            <p:nvPr/>
          </p:nvSpPr>
          <p:spPr>
            <a:xfrm>
              <a:off x="293400" y="1920600"/>
              <a:ext cx="101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1"/>
            <p:cNvSpPr/>
            <p:nvPr/>
          </p:nvSpPr>
          <p:spPr>
            <a:xfrm>
              <a:off x="231840" y="1928880"/>
              <a:ext cx="1146240" cy="722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2"/>
          <p:cNvGrpSpPr/>
          <p:nvPr/>
        </p:nvGrpSpPr>
        <p:grpSpPr>
          <a:xfrm>
            <a:off x="312840" y="5333400"/>
            <a:ext cx="1285920" cy="738720"/>
            <a:chOff x="312840" y="5333400"/>
            <a:chExt cx="1285920" cy="738720"/>
          </a:xfrm>
        </p:grpSpPr>
        <p:sp>
          <p:nvSpPr>
            <p:cNvPr id="339" name="Text Box 33"/>
            <p:cNvSpPr/>
            <p:nvPr/>
          </p:nvSpPr>
          <p:spPr>
            <a:xfrm>
              <a:off x="312840" y="533340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PRSKA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4"/>
            <p:cNvSpPr/>
            <p:nvPr/>
          </p:nvSpPr>
          <p:spPr>
            <a:xfrm>
              <a:off x="343080" y="5357880"/>
              <a:ext cx="1198800" cy="71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feld 15"/>
          <p:cNvSpPr/>
          <p:nvPr/>
        </p:nvSpPr>
        <p:spPr>
          <a:xfrm>
            <a:off x="571680" y="3286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Za kalibraciju koristiit samo ČISTU 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feld 24"/>
          <p:cNvSpPr/>
          <p:nvPr/>
        </p:nvSpPr>
        <p:spPr>
          <a:xfrm>
            <a:off x="1117440" y="185724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prskalicu i po potrebi poprav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feld 25"/>
          <p:cNvSpPr/>
          <p:nvPr/>
        </p:nvSpPr>
        <p:spPr>
          <a:xfrm>
            <a:off x="4687920" y="5610240"/>
            <a:ext cx="28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Podesiti ZAPREMINU RASTVORA, ako je potreb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30"/>
          <p:cNvSpPr/>
          <p:nvPr/>
        </p:nvSpPr>
        <p:spPr>
          <a:xfrm>
            <a:off x="5826240" y="359712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zra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čunati potrebnu ZAPREMINU RASTV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36"/>
          <p:cNvSpPr/>
          <p:nvPr/>
        </p:nvSpPr>
        <p:spPr>
          <a:xfrm>
            <a:off x="1714680" y="54291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Priprem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RAST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Gerade Verbindung mit Pfeil 39"/>
          <p:cNvCxnSpPr/>
          <p:nvPr/>
        </p:nvCxnSpPr>
        <p:spPr>
          <a:xfrm>
            <a:off x="3143160" y="2271240"/>
            <a:ext cx="57240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8" name="Gerade Verbindung mit Pfeil 41"/>
          <p:cNvCxnSpPr/>
          <p:nvPr/>
        </p:nvCxnSpPr>
        <p:spPr>
          <a:xfrm>
            <a:off x="5000400" y="2047680"/>
            <a:ext cx="57204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Gerade Verbindung mit Pfeil 43"/>
          <p:cNvCxnSpPr/>
          <p:nvPr/>
        </p:nvCxnSpPr>
        <p:spPr>
          <a:xfrm>
            <a:off x="6423480" y="2781000"/>
            <a:ext cx="429480" cy="430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Gerade Verbindung mit Pfeil 62"/>
          <p:cNvCxnSpPr/>
          <p:nvPr/>
        </p:nvCxnSpPr>
        <p:spPr>
          <a:xfrm flipH="1">
            <a:off x="6424560" y="4521240"/>
            <a:ext cx="178200" cy="7052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1" name="Gerade Verbindung mit Pfeil 71"/>
          <p:cNvCxnSpPr/>
          <p:nvPr/>
        </p:nvCxnSpPr>
        <p:spPr>
          <a:xfrm flipH="1" flipV="1">
            <a:off x="3520440" y="5887440"/>
            <a:ext cx="105156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2" name="Foliennummernplatzhalter 7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D8AD-232A-4E91-A515-79429C0BE30A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feld 28"/>
          <p:cNvSpPr/>
          <p:nvPr/>
        </p:nvSpPr>
        <p:spPr>
          <a:xfrm>
            <a:off x="5610240" y="1857240"/>
            <a:ext cx="22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zmeriti PROTOK </a:t>
            </a: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di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feld 27"/>
          <p:cNvSpPr/>
          <p:nvPr/>
        </p:nvSpPr>
        <p:spPr>
          <a:xfrm>
            <a:off x="3639960" y="1539720"/>
            <a:ext cx="14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zmetiti BRZINU </a:t>
            </a: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hodanja pri prskan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Wrongcloths_pouring"/>
          <p:cNvPicPr/>
          <p:nvPr/>
        </p:nvPicPr>
        <p:blipFill>
          <a:blip r:embed="rId1"/>
          <a:stretch/>
        </p:blipFill>
        <p:spPr>
          <a:xfrm>
            <a:off x="3484440" y="2714760"/>
            <a:ext cx="1833840" cy="2970000"/>
          </a:xfrm>
          <a:prstGeom prst="rect">
            <a:avLst/>
          </a:prstGeom>
          <a:ln w="0">
            <a:noFill/>
          </a:ln>
        </p:spPr>
      </p:pic>
      <p:sp>
        <p:nvSpPr>
          <p:cNvPr id="356" name="Textfeld 30"/>
          <p:cNvSpPr/>
          <p:nvPr/>
        </p:nvSpPr>
        <p:spPr>
          <a:xfrm>
            <a:off x="428760" y="6429240"/>
            <a:ext cx="26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Izvor fotografija i slik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: Syn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358" name="Rectangle 26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8D9-2F4C-4AFC-AC52-2823039FB37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2"/>
          <p:cNvGrpSpPr/>
          <p:nvPr/>
        </p:nvGrpSpPr>
        <p:grpSpPr>
          <a:xfrm>
            <a:off x="106200" y="2192400"/>
            <a:ext cx="8986680" cy="4565520"/>
            <a:chOff x="106200" y="2192400"/>
            <a:chExt cx="8986680" cy="4565520"/>
          </a:xfrm>
        </p:grpSpPr>
        <p:sp>
          <p:nvSpPr>
            <p:cNvPr id="600" name="Text Box 1028"/>
            <p:cNvSpPr/>
            <p:nvPr/>
          </p:nvSpPr>
          <p:spPr>
            <a:xfrm>
              <a:off x="322560" y="3886560"/>
              <a:ext cx="5150880" cy="719280"/>
            </a:xfrm>
            <a:prstGeom prst="rect">
              <a:avLst/>
            </a:prstGeom>
            <a:noFill/>
            <a:ln cap="rnd" w="255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0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Širina redova koji se treti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Calibri"/>
                  <a:ea typeface="Arial"/>
                </a:rPr>
                <a:t>18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GB" sz="28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1029"/>
            <p:cNvSpPr/>
            <p:nvPr/>
          </p:nvSpPr>
          <p:spPr>
            <a:xfrm>
              <a:off x="322560" y="4833720"/>
              <a:ext cx="5150880" cy="718920"/>
            </a:xfrm>
            <a:prstGeom prst="rect">
              <a:avLst/>
            </a:prstGeom>
            <a:noFill/>
            <a:ln cap="rnd" w="255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Calibri"/>
                  <a:ea typeface="Arial"/>
                </a:rPr>
                <a:t>50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GB" sz="28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0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Razmak između redo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030"/>
            <p:cNvSpPr/>
            <p:nvPr/>
          </p:nvSpPr>
          <p:spPr>
            <a:xfrm>
              <a:off x="6778800" y="3886560"/>
              <a:ext cx="1717560" cy="1666080"/>
            </a:xfrm>
            <a:prstGeom prst="rect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Fa</a:t>
              </a:r>
              <a:r>
                <a:rPr b="0" lang="sr-Latn-RS" sz="20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k</a:t>
              </a:r>
              <a:r>
                <a:rPr b="0" lang="en-GB" sz="2000" spc="-1" strike="noStrike">
                  <a:solidFill>
                    <a:srgbClr val="800080"/>
                  </a:solidFill>
                  <a:latin typeface="Calibri"/>
                  <a:ea typeface="Arial"/>
                </a:rPr>
                <a:t>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9900"/>
                  </a:solidFill>
                  <a:uFillTx/>
                  <a:latin typeface="Calibri"/>
                  <a:ea typeface="Arial"/>
                </a:rPr>
                <a:t>0.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031"/>
            <p:cNvSpPr/>
            <p:nvPr/>
          </p:nvSpPr>
          <p:spPr>
            <a:xfrm>
              <a:off x="6093000" y="3886560"/>
              <a:ext cx="685800" cy="16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1032"/>
            <p:cNvSpPr/>
            <p:nvPr/>
          </p:nvSpPr>
          <p:spPr>
            <a:xfrm>
              <a:off x="248040" y="4733280"/>
              <a:ext cx="535680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033"/>
            <p:cNvSpPr/>
            <p:nvPr/>
          </p:nvSpPr>
          <p:spPr>
            <a:xfrm>
              <a:off x="106200" y="5749560"/>
              <a:ext cx="892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h</a:t>
              </a: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vršine parcele, tretira se samo 36%, tj.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00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nosno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</a:t>
              </a: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 x 10000 m</a:t>
              </a:r>
              <a:r>
                <a:rPr b="0" lang="en-GB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Latn-R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vršina koje se tretira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trebno je manja količina preparata, ali se primenjuje preporučena doza prepar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034"/>
            <p:cNvSpPr/>
            <p:nvPr/>
          </p:nvSpPr>
          <p:spPr>
            <a:xfrm>
              <a:off x="6183720" y="3057840"/>
              <a:ext cx="2909160" cy="3502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Širina redova koji se tretiraj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"/>
            <p:cNvSpPr/>
            <p:nvPr/>
          </p:nvSpPr>
          <p:spPr>
            <a:xfrm>
              <a:off x="289080" y="2238120"/>
              <a:ext cx="1402560" cy="534600"/>
            </a:xfrm>
            <a:custGeom>
              <a:avLst/>
              <a:gdLst>
                <a:gd name="textAreaLeft" fmla="*/ 0 w 1402560"/>
                <a:gd name="textAreaRight" fmla="*/ 1402920 w 14025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1040" h="416">
                  <a:moveTo>
                    <a:pt x="0" y="400"/>
                  </a:moveTo>
                  <a:cubicBezTo>
                    <a:pt x="34" y="378"/>
                    <a:pt x="71" y="366"/>
                    <a:pt x="104" y="344"/>
                  </a:cubicBezTo>
                  <a:cubicBezTo>
                    <a:pt x="142" y="287"/>
                    <a:pt x="204" y="228"/>
                    <a:pt x="256" y="184"/>
                  </a:cubicBezTo>
                  <a:cubicBezTo>
                    <a:pt x="282" y="163"/>
                    <a:pt x="292" y="139"/>
                    <a:pt x="320" y="120"/>
                  </a:cubicBezTo>
                  <a:cubicBezTo>
                    <a:pt x="339" y="92"/>
                    <a:pt x="359" y="54"/>
                    <a:pt x="384" y="32"/>
                  </a:cubicBezTo>
                  <a:cubicBezTo>
                    <a:pt x="398" y="19"/>
                    <a:pt x="432" y="0"/>
                    <a:pt x="432" y="0"/>
                  </a:cubicBezTo>
                  <a:cubicBezTo>
                    <a:pt x="635" y="10"/>
                    <a:pt x="838" y="8"/>
                    <a:pt x="1040" y="24"/>
                  </a:cubicBezTo>
                  <a:cubicBezTo>
                    <a:pt x="1021" y="52"/>
                    <a:pt x="998" y="79"/>
                    <a:pt x="976" y="104"/>
                  </a:cubicBezTo>
                  <a:cubicBezTo>
                    <a:pt x="958" y="124"/>
                    <a:pt x="920" y="160"/>
                    <a:pt x="920" y="160"/>
                  </a:cubicBezTo>
                  <a:cubicBezTo>
                    <a:pt x="910" y="191"/>
                    <a:pt x="885" y="203"/>
                    <a:pt x="872" y="232"/>
                  </a:cubicBezTo>
                  <a:cubicBezTo>
                    <a:pt x="865" y="247"/>
                    <a:pt x="865" y="266"/>
                    <a:pt x="856" y="280"/>
                  </a:cubicBezTo>
                  <a:cubicBezTo>
                    <a:pt x="845" y="296"/>
                    <a:pt x="830" y="310"/>
                    <a:pt x="824" y="328"/>
                  </a:cubicBezTo>
                  <a:cubicBezTo>
                    <a:pt x="821" y="336"/>
                    <a:pt x="820" y="344"/>
                    <a:pt x="816" y="352"/>
                  </a:cubicBezTo>
                  <a:cubicBezTo>
                    <a:pt x="806" y="373"/>
                    <a:pt x="792" y="383"/>
                    <a:pt x="792" y="408"/>
                  </a:cubicBezTo>
                  <a:cubicBezTo>
                    <a:pt x="760" y="376"/>
                    <a:pt x="730" y="374"/>
                    <a:pt x="688" y="360"/>
                  </a:cubicBezTo>
                  <a:cubicBezTo>
                    <a:pt x="617" y="374"/>
                    <a:pt x="551" y="402"/>
                    <a:pt x="480" y="416"/>
                  </a:cubicBezTo>
                  <a:cubicBezTo>
                    <a:pt x="346" y="406"/>
                    <a:pt x="214" y="383"/>
                    <a:pt x="80" y="368"/>
                  </a:cubicBezTo>
                  <a:cubicBezTo>
                    <a:pt x="46" y="375"/>
                    <a:pt x="24" y="376"/>
                    <a:pt x="0" y="400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942120" y="248328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037"/>
            <p:cNvSpPr/>
            <p:nvPr/>
          </p:nvSpPr>
          <p:spPr>
            <a:xfrm>
              <a:off x="1004040" y="2444760"/>
              <a:ext cx="216360" cy="38520"/>
            </a:xfrm>
            <a:prstGeom prst="parallelogram">
              <a:avLst>
                <a:gd name="adj" fmla="val 14042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038"/>
            <p:cNvSpPr/>
            <p:nvPr/>
          </p:nvSpPr>
          <p:spPr>
            <a:xfrm rot="5400000">
              <a:off x="823320" y="2446560"/>
              <a:ext cx="8136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039"/>
            <p:cNvSpPr/>
            <p:nvPr/>
          </p:nvSpPr>
          <p:spPr>
            <a:xfrm>
              <a:off x="942120" y="2523240"/>
              <a:ext cx="196560" cy="82440"/>
            </a:xfrm>
            <a:prstGeom prst="parallelogram">
              <a:avLst>
                <a:gd name="adj" fmla="val 5960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040"/>
            <p:cNvSpPr/>
            <p:nvPr/>
          </p:nvSpPr>
          <p:spPr>
            <a:xfrm>
              <a:off x="1148040" y="2346120"/>
              <a:ext cx="195120" cy="39600"/>
            </a:xfrm>
            <a:prstGeom prst="parallelogram">
              <a:avLst>
                <a:gd name="adj" fmla="val 123182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041"/>
            <p:cNvSpPr/>
            <p:nvPr/>
          </p:nvSpPr>
          <p:spPr>
            <a:xfrm>
              <a:off x="931320" y="2431800"/>
              <a:ext cx="216360" cy="55800"/>
            </a:xfrm>
            <a:prstGeom prst="parallelogram">
              <a:avLst>
                <a:gd name="adj" fmla="val 9693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1042"/>
            <p:cNvSpPr/>
            <p:nvPr/>
          </p:nvSpPr>
          <p:spPr>
            <a:xfrm rot="5400000">
              <a:off x="959040" y="2289960"/>
              <a:ext cx="11952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8"/>
            <p:cNvSpPr/>
            <p:nvPr/>
          </p:nvSpPr>
          <p:spPr>
            <a:xfrm>
              <a:off x="1096560" y="234612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044"/>
            <p:cNvSpPr/>
            <p:nvPr/>
          </p:nvSpPr>
          <p:spPr>
            <a:xfrm>
              <a:off x="623880" y="2660400"/>
              <a:ext cx="216360" cy="60480"/>
            </a:xfrm>
            <a:prstGeom prst="parallelogram">
              <a:avLst>
                <a:gd name="adj" fmla="val 8943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0"/>
            <p:cNvSpPr/>
            <p:nvPr/>
          </p:nvSpPr>
          <p:spPr>
            <a:xfrm>
              <a:off x="778320" y="263124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046"/>
            <p:cNvSpPr/>
            <p:nvPr/>
          </p:nvSpPr>
          <p:spPr>
            <a:xfrm>
              <a:off x="778320" y="2702160"/>
              <a:ext cx="278280" cy="70560"/>
            </a:xfrm>
            <a:prstGeom prst="parallelogram">
              <a:avLst>
                <a:gd name="adj" fmla="val 9859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1047"/>
            <p:cNvSpPr/>
            <p:nvPr/>
          </p:nvSpPr>
          <p:spPr>
            <a:xfrm>
              <a:off x="840600" y="2631240"/>
              <a:ext cx="154080" cy="33480"/>
            </a:xfrm>
            <a:prstGeom prst="parallelogram">
              <a:avLst>
                <a:gd name="adj" fmla="val 11505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048"/>
            <p:cNvSpPr/>
            <p:nvPr/>
          </p:nvSpPr>
          <p:spPr>
            <a:xfrm>
              <a:off x="3369960" y="3057840"/>
              <a:ext cx="2615040" cy="350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azmak između redo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4"/>
            <p:cNvSpPr/>
            <p:nvPr/>
          </p:nvSpPr>
          <p:spPr>
            <a:xfrm>
              <a:off x="7104600" y="2239560"/>
              <a:ext cx="1402560" cy="534960"/>
            </a:xfrm>
            <a:custGeom>
              <a:avLst/>
              <a:gdLst>
                <a:gd name="textAreaLeft" fmla="*/ 0 w 1402560"/>
                <a:gd name="textAreaRight" fmla="*/ 1402920 w 14025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040" h="416">
                  <a:moveTo>
                    <a:pt x="0" y="400"/>
                  </a:moveTo>
                  <a:cubicBezTo>
                    <a:pt x="34" y="378"/>
                    <a:pt x="71" y="366"/>
                    <a:pt x="104" y="344"/>
                  </a:cubicBezTo>
                  <a:cubicBezTo>
                    <a:pt x="142" y="287"/>
                    <a:pt x="204" y="228"/>
                    <a:pt x="256" y="184"/>
                  </a:cubicBezTo>
                  <a:cubicBezTo>
                    <a:pt x="282" y="163"/>
                    <a:pt x="292" y="139"/>
                    <a:pt x="320" y="120"/>
                  </a:cubicBezTo>
                  <a:cubicBezTo>
                    <a:pt x="339" y="92"/>
                    <a:pt x="359" y="54"/>
                    <a:pt x="384" y="32"/>
                  </a:cubicBezTo>
                  <a:cubicBezTo>
                    <a:pt x="398" y="19"/>
                    <a:pt x="432" y="0"/>
                    <a:pt x="432" y="0"/>
                  </a:cubicBezTo>
                  <a:cubicBezTo>
                    <a:pt x="635" y="10"/>
                    <a:pt x="838" y="8"/>
                    <a:pt x="1040" y="24"/>
                  </a:cubicBezTo>
                  <a:cubicBezTo>
                    <a:pt x="1021" y="52"/>
                    <a:pt x="998" y="79"/>
                    <a:pt x="976" y="104"/>
                  </a:cubicBezTo>
                  <a:cubicBezTo>
                    <a:pt x="958" y="124"/>
                    <a:pt x="920" y="160"/>
                    <a:pt x="920" y="160"/>
                  </a:cubicBezTo>
                  <a:cubicBezTo>
                    <a:pt x="910" y="191"/>
                    <a:pt x="885" y="203"/>
                    <a:pt x="872" y="232"/>
                  </a:cubicBezTo>
                  <a:cubicBezTo>
                    <a:pt x="865" y="247"/>
                    <a:pt x="865" y="266"/>
                    <a:pt x="856" y="280"/>
                  </a:cubicBezTo>
                  <a:cubicBezTo>
                    <a:pt x="845" y="296"/>
                    <a:pt x="830" y="310"/>
                    <a:pt x="824" y="328"/>
                  </a:cubicBezTo>
                  <a:cubicBezTo>
                    <a:pt x="821" y="336"/>
                    <a:pt x="820" y="344"/>
                    <a:pt x="816" y="352"/>
                  </a:cubicBezTo>
                  <a:cubicBezTo>
                    <a:pt x="806" y="373"/>
                    <a:pt x="792" y="383"/>
                    <a:pt x="792" y="408"/>
                  </a:cubicBezTo>
                  <a:cubicBezTo>
                    <a:pt x="760" y="376"/>
                    <a:pt x="730" y="374"/>
                    <a:pt x="688" y="360"/>
                  </a:cubicBezTo>
                  <a:cubicBezTo>
                    <a:pt x="617" y="374"/>
                    <a:pt x="551" y="402"/>
                    <a:pt x="480" y="416"/>
                  </a:cubicBezTo>
                  <a:cubicBezTo>
                    <a:pt x="346" y="406"/>
                    <a:pt x="214" y="383"/>
                    <a:pt x="80" y="368"/>
                  </a:cubicBezTo>
                  <a:cubicBezTo>
                    <a:pt x="46" y="375"/>
                    <a:pt x="24" y="376"/>
                    <a:pt x="0" y="400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5"/>
            <p:cNvSpPr/>
            <p:nvPr/>
          </p:nvSpPr>
          <p:spPr>
            <a:xfrm>
              <a:off x="7757280" y="2484720"/>
              <a:ext cx="6192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1051"/>
            <p:cNvSpPr/>
            <p:nvPr/>
          </p:nvSpPr>
          <p:spPr>
            <a:xfrm>
              <a:off x="7819560" y="2446560"/>
              <a:ext cx="216360" cy="38160"/>
            </a:xfrm>
            <a:prstGeom prst="parallelogram">
              <a:avLst>
                <a:gd name="adj" fmla="val 14174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1052"/>
            <p:cNvSpPr/>
            <p:nvPr/>
          </p:nvSpPr>
          <p:spPr>
            <a:xfrm rot="5400000">
              <a:off x="7638840" y="2448000"/>
              <a:ext cx="8136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1053"/>
            <p:cNvSpPr/>
            <p:nvPr/>
          </p:nvSpPr>
          <p:spPr>
            <a:xfrm>
              <a:off x="7757280" y="2524680"/>
              <a:ext cx="196560" cy="82440"/>
            </a:xfrm>
            <a:prstGeom prst="parallelogram">
              <a:avLst>
                <a:gd name="adj" fmla="val 5960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1054"/>
            <p:cNvSpPr/>
            <p:nvPr/>
          </p:nvSpPr>
          <p:spPr>
            <a:xfrm>
              <a:off x="7963560" y="2347200"/>
              <a:ext cx="194760" cy="39600"/>
            </a:xfrm>
            <a:prstGeom prst="parallelogram">
              <a:avLst>
                <a:gd name="adj" fmla="val 12295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1055"/>
            <p:cNvSpPr/>
            <p:nvPr/>
          </p:nvSpPr>
          <p:spPr>
            <a:xfrm>
              <a:off x="7746840" y="2433240"/>
              <a:ext cx="216360" cy="56160"/>
            </a:xfrm>
            <a:prstGeom prst="parallelogram">
              <a:avLst>
                <a:gd name="adj" fmla="val 9631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1056"/>
            <p:cNvSpPr/>
            <p:nvPr/>
          </p:nvSpPr>
          <p:spPr>
            <a:xfrm rot="5400000">
              <a:off x="7774200" y="2291400"/>
              <a:ext cx="11952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2"/>
            <p:cNvSpPr/>
            <p:nvPr/>
          </p:nvSpPr>
          <p:spPr>
            <a:xfrm>
              <a:off x="7912080" y="2347200"/>
              <a:ext cx="6156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1058"/>
            <p:cNvSpPr/>
            <p:nvPr/>
          </p:nvSpPr>
          <p:spPr>
            <a:xfrm>
              <a:off x="7439400" y="2662200"/>
              <a:ext cx="216360" cy="60120"/>
            </a:xfrm>
            <a:prstGeom prst="parallelogram">
              <a:avLst>
                <a:gd name="adj" fmla="val 8997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4"/>
            <p:cNvSpPr/>
            <p:nvPr/>
          </p:nvSpPr>
          <p:spPr>
            <a:xfrm>
              <a:off x="7593840" y="2632320"/>
              <a:ext cx="6156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1060"/>
            <p:cNvSpPr/>
            <p:nvPr/>
          </p:nvSpPr>
          <p:spPr>
            <a:xfrm>
              <a:off x="7593840" y="2703600"/>
              <a:ext cx="278280" cy="70920"/>
            </a:xfrm>
            <a:prstGeom prst="parallelogram">
              <a:avLst>
                <a:gd name="adj" fmla="val 98096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1061"/>
            <p:cNvSpPr/>
            <p:nvPr/>
          </p:nvSpPr>
          <p:spPr>
            <a:xfrm>
              <a:off x="7655760" y="2632320"/>
              <a:ext cx="154440" cy="33840"/>
            </a:xfrm>
            <a:prstGeom prst="parallelogram">
              <a:avLst>
                <a:gd name="adj" fmla="val 114096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7"/>
            <p:cNvSpPr/>
            <p:nvPr/>
          </p:nvSpPr>
          <p:spPr>
            <a:xfrm>
              <a:off x="4914720" y="2192400"/>
              <a:ext cx="1402200" cy="534960"/>
            </a:xfrm>
            <a:custGeom>
              <a:avLst/>
              <a:gdLst>
                <a:gd name="textAreaLeft" fmla="*/ 0 w 1402200"/>
                <a:gd name="textAreaRight" fmla="*/ 1402560 w 140220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1040" h="416">
                  <a:moveTo>
                    <a:pt x="0" y="400"/>
                  </a:moveTo>
                  <a:cubicBezTo>
                    <a:pt x="34" y="378"/>
                    <a:pt x="71" y="366"/>
                    <a:pt x="104" y="344"/>
                  </a:cubicBezTo>
                  <a:cubicBezTo>
                    <a:pt x="142" y="287"/>
                    <a:pt x="204" y="228"/>
                    <a:pt x="256" y="184"/>
                  </a:cubicBezTo>
                  <a:cubicBezTo>
                    <a:pt x="282" y="163"/>
                    <a:pt x="292" y="139"/>
                    <a:pt x="320" y="120"/>
                  </a:cubicBezTo>
                  <a:cubicBezTo>
                    <a:pt x="339" y="92"/>
                    <a:pt x="359" y="54"/>
                    <a:pt x="384" y="32"/>
                  </a:cubicBezTo>
                  <a:cubicBezTo>
                    <a:pt x="398" y="19"/>
                    <a:pt x="432" y="0"/>
                    <a:pt x="432" y="0"/>
                  </a:cubicBezTo>
                  <a:cubicBezTo>
                    <a:pt x="635" y="10"/>
                    <a:pt x="838" y="8"/>
                    <a:pt x="1040" y="24"/>
                  </a:cubicBezTo>
                  <a:cubicBezTo>
                    <a:pt x="1021" y="52"/>
                    <a:pt x="998" y="79"/>
                    <a:pt x="976" y="104"/>
                  </a:cubicBezTo>
                  <a:cubicBezTo>
                    <a:pt x="958" y="124"/>
                    <a:pt x="920" y="160"/>
                    <a:pt x="920" y="160"/>
                  </a:cubicBezTo>
                  <a:cubicBezTo>
                    <a:pt x="910" y="191"/>
                    <a:pt x="885" y="203"/>
                    <a:pt x="872" y="232"/>
                  </a:cubicBezTo>
                  <a:cubicBezTo>
                    <a:pt x="865" y="247"/>
                    <a:pt x="865" y="266"/>
                    <a:pt x="856" y="280"/>
                  </a:cubicBezTo>
                  <a:cubicBezTo>
                    <a:pt x="845" y="296"/>
                    <a:pt x="830" y="310"/>
                    <a:pt x="824" y="328"/>
                  </a:cubicBezTo>
                  <a:cubicBezTo>
                    <a:pt x="821" y="336"/>
                    <a:pt x="820" y="344"/>
                    <a:pt x="816" y="352"/>
                  </a:cubicBezTo>
                  <a:cubicBezTo>
                    <a:pt x="806" y="373"/>
                    <a:pt x="792" y="383"/>
                    <a:pt x="792" y="408"/>
                  </a:cubicBezTo>
                  <a:cubicBezTo>
                    <a:pt x="760" y="376"/>
                    <a:pt x="730" y="374"/>
                    <a:pt x="688" y="360"/>
                  </a:cubicBezTo>
                  <a:cubicBezTo>
                    <a:pt x="617" y="374"/>
                    <a:pt x="551" y="402"/>
                    <a:pt x="480" y="416"/>
                  </a:cubicBezTo>
                  <a:cubicBezTo>
                    <a:pt x="346" y="406"/>
                    <a:pt x="214" y="383"/>
                    <a:pt x="80" y="368"/>
                  </a:cubicBezTo>
                  <a:cubicBezTo>
                    <a:pt x="46" y="375"/>
                    <a:pt x="24" y="376"/>
                    <a:pt x="0" y="400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8"/>
            <p:cNvSpPr/>
            <p:nvPr/>
          </p:nvSpPr>
          <p:spPr>
            <a:xfrm>
              <a:off x="5567040" y="2437560"/>
              <a:ext cx="6192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064"/>
            <p:cNvSpPr/>
            <p:nvPr/>
          </p:nvSpPr>
          <p:spPr>
            <a:xfrm>
              <a:off x="5629320" y="2399400"/>
              <a:ext cx="216360" cy="38160"/>
            </a:xfrm>
            <a:prstGeom prst="parallelogram">
              <a:avLst>
                <a:gd name="adj" fmla="val 14174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065"/>
            <p:cNvSpPr/>
            <p:nvPr/>
          </p:nvSpPr>
          <p:spPr>
            <a:xfrm rot="5400000">
              <a:off x="5449320" y="2401200"/>
              <a:ext cx="81360" cy="15408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066"/>
            <p:cNvSpPr/>
            <p:nvPr/>
          </p:nvSpPr>
          <p:spPr>
            <a:xfrm>
              <a:off x="5567040" y="2477160"/>
              <a:ext cx="196920" cy="82440"/>
            </a:xfrm>
            <a:prstGeom prst="parallelogram">
              <a:avLst>
                <a:gd name="adj" fmla="val 59716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067"/>
            <p:cNvSpPr/>
            <p:nvPr/>
          </p:nvSpPr>
          <p:spPr>
            <a:xfrm>
              <a:off x="5773320" y="2300040"/>
              <a:ext cx="195120" cy="39600"/>
            </a:xfrm>
            <a:prstGeom prst="parallelogram">
              <a:avLst>
                <a:gd name="adj" fmla="val 123182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1068"/>
            <p:cNvSpPr/>
            <p:nvPr/>
          </p:nvSpPr>
          <p:spPr>
            <a:xfrm>
              <a:off x="5556600" y="2385720"/>
              <a:ext cx="216360" cy="56160"/>
            </a:xfrm>
            <a:prstGeom prst="parallelogram">
              <a:avLst>
                <a:gd name="adj" fmla="val 9631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1069"/>
            <p:cNvSpPr/>
            <p:nvPr/>
          </p:nvSpPr>
          <p:spPr>
            <a:xfrm rot="5400000">
              <a:off x="5583960" y="2244240"/>
              <a:ext cx="11952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5"/>
            <p:cNvSpPr/>
            <p:nvPr/>
          </p:nvSpPr>
          <p:spPr>
            <a:xfrm>
              <a:off x="5721840" y="2300040"/>
              <a:ext cx="6192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1071"/>
            <p:cNvSpPr/>
            <p:nvPr/>
          </p:nvSpPr>
          <p:spPr>
            <a:xfrm>
              <a:off x="5249160" y="2614680"/>
              <a:ext cx="216360" cy="60480"/>
            </a:xfrm>
            <a:prstGeom prst="parallelogram">
              <a:avLst>
                <a:gd name="adj" fmla="val 8943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7"/>
            <p:cNvSpPr/>
            <p:nvPr/>
          </p:nvSpPr>
          <p:spPr>
            <a:xfrm>
              <a:off x="5403600" y="2585160"/>
              <a:ext cx="61920" cy="14184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073"/>
            <p:cNvSpPr/>
            <p:nvPr/>
          </p:nvSpPr>
          <p:spPr>
            <a:xfrm>
              <a:off x="5403600" y="2656080"/>
              <a:ext cx="278280" cy="70920"/>
            </a:xfrm>
            <a:prstGeom prst="parallelogram">
              <a:avLst>
                <a:gd name="adj" fmla="val 98096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074"/>
            <p:cNvSpPr/>
            <p:nvPr/>
          </p:nvSpPr>
          <p:spPr>
            <a:xfrm>
              <a:off x="5465880" y="2585160"/>
              <a:ext cx="154440" cy="33840"/>
            </a:xfrm>
            <a:prstGeom prst="parallelogram">
              <a:avLst>
                <a:gd name="adj" fmla="val 114096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0"/>
            <p:cNvSpPr/>
            <p:nvPr/>
          </p:nvSpPr>
          <p:spPr>
            <a:xfrm>
              <a:off x="2562480" y="2220480"/>
              <a:ext cx="1402560" cy="534600"/>
            </a:xfrm>
            <a:custGeom>
              <a:avLst/>
              <a:gdLst>
                <a:gd name="textAreaLeft" fmla="*/ 0 w 1402560"/>
                <a:gd name="textAreaRight" fmla="*/ 1402920 w 14025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1040" h="416">
                  <a:moveTo>
                    <a:pt x="0" y="400"/>
                  </a:moveTo>
                  <a:cubicBezTo>
                    <a:pt x="34" y="378"/>
                    <a:pt x="71" y="366"/>
                    <a:pt x="104" y="344"/>
                  </a:cubicBezTo>
                  <a:cubicBezTo>
                    <a:pt x="142" y="287"/>
                    <a:pt x="204" y="228"/>
                    <a:pt x="256" y="184"/>
                  </a:cubicBezTo>
                  <a:cubicBezTo>
                    <a:pt x="282" y="163"/>
                    <a:pt x="292" y="139"/>
                    <a:pt x="320" y="120"/>
                  </a:cubicBezTo>
                  <a:cubicBezTo>
                    <a:pt x="339" y="92"/>
                    <a:pt x="359" y="54"/>
                    <a:pt x="384" y="32"/>
                  </a:cubicBezTo>
                  <a:cubicBezTo>
                    <a:pt x="398" y="19"/>
                    <a:pt x="432" y="0"/>
                    <a:pt x="432" y="0"/>
                  </a:cubicBezTo>
                  <a:cubicBezTo>
                    <a:pt x="635" y="10"/>
                    <a:pt x="838" y="8"/>
                    <a:pt x="1040" y="24"/>
                  </a:cubicBezTo>
                  <a:cubicBezTo>
                    <a:pt x="1021" y="52"/>
                    <a:pt x="998" y="79"/>
                    <a:pt x="976" y="104"/>
                  </a:cubicBezTo>
                  <a:cubicBezTo>
                    <a:pt x="958" y="124"/>
                    <a:pt x="920" y="160"/>
                    <a:pt x="920" y="160"/>
                  </a:cubicBezTo>
                  <a:cubicBezTo>
                    <a:pt x="910" y="191"/>
                    <a:pt x="885" y="203"/>
                    <a:pt x="872" y="232"/>
                  </a:cubicBezTo>
                  <a:cubicBezTo>
                    <a:pt x="865" y="247"/>
                    <a:pt x="865" y="266"/>
                    <a:pt x="856" y="280"/>
                  </a:cubicBezTo>
                  <a:cubicBezTo>
                    <a:pt x="845" y="296"/>
                    <a:pt x="830" y="310"/>
                    <a:pt x="824" y="328"/>
                  </a:cubicBezTo>
                  <a:cubicBezTo>
                    <a:pt x="821" y="336"/>
                    <a:pt x="820" y="344"/>
                    <a:pt x="816" y="352"/>
                  </a:cubicBezTo>
                  <a:cubicBezTo>
                    <a:pt x="806" y="373"/>
                    <a:pt x="792" y="383"/>
                    <a:pt x="792" y="408"/>
                  </a:cubicBezTo>
                  <a:cubicBezTo>
                    <a:pt x="760" y="376"/>
                    <a:pt x="730" y="374"/>
                    <a:pt x="688" y="360"/>
                  </a:cubicBezTo>
                  <a:cubicBezTo>
                    <a:pt x="617" y="374"/>
                    <a:pt x="551" y="402"/>
                    <a:pt x="480" y="416"/>
                  </a:cubicBezTo>
                  <a:cubicBezTo>
                    <a:pt x="346" y="406"/>
                    <a:pt x="214" y="383"/>
                    <a:pt x="80" y="368"/>
                  </a:cubicBezTo>
                  <a:cubicBezTo>
                    <a:pt x="46" y="375"/>
                    <a:pt x="24" y="376"/>
                    <a:pt x="0" y="400"/>
                  </a:cubicBez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51"/>
            <p:cNvSpPr/>
            <p:nvPr/>
          </p:nvSpPr>
          <p:spPr>
            <a:xfrm>
              <a:off x="3215160" y="246564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1077"/>
            <p:cNvSpPr/>
            <p:nvPr/>
          </p:nvSpPr>
          <p:spPr>
            <a:xfrm>
              <a:off x="3277440" y="2427120"/>
              <a:ext cx="216360" cy="38520"/>
            </a:xfrm>
            <a:prstGeom prst="parallelogram">
              <a:avLst>
                <a:gd name="adj" fmla="val 14042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1078"/>
            <p:cNvSpPr/>
            <p:nvPr/>
          </p:nvSpPr>
          <p:spPr>
            <a:xfrm rot="5400000">
              <a:off x="3096720" y="2428920"/>
              <a:ext cx="8136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1079"/>
            <p:cNvSpPr/>
            <p:nvPr/>
          </p:nvSpPr>
          <p:spPr>
            <a:xfrm>
              <a:off x="3215160" y="2505600"/>
              <a:ext cx="196560" cy="82440"/>
            </a:xfrm>
            <a:prstGeom prst="parallelogram">
              <a:avLst>
                <a:gd name="adj" fmla="val 5960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1080"/>
            <p:cNvSpPr/>
            <p:nvPr/>
          </p:nvSpPr>
          <p:spPr>
            <a:xfrm>
              <a:off x="3421440" y="2328120"/>
              <a:ext cx="195120" cy="39600"/>
            </a:xfrm>
            <a:prstGeom prst="parallelogram">
              <a:avLst>
                <a:gd name="adj" fmla="val 123182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081"/>
            <p:cNvSpPr/>
            <p:nvPr/>
          </p:nvSpPr>
          <p:spPr>
            <a:xfrm>
              <a:off x="3204720" y="2414160"/>
              <a:ext cx="216360" cy="55800"/>
            </a:xfrm>
            <a:prstGeom prst="parallelogram">
              <a:avLst>
                <a:gd name="adj" fmla="val 9693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1082"/>
            <p:cNvSpPr/>
            <p:nvPr/>
          </p:nvSpPr>
          <p:spPr>
            <a:xfrm rot="5400000">
              <a:off x="3232080" y="2272320"/>
              <a:ext cx="119880" cy="154440"/>
            </a:xfrm>
            <a:prstGeom prst="parallelogram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58"/>
            <p:cNvSpPr/>
            <p:nvPr/>
          </p:nvSpPr>
          <p:spPr>
            <a:xfrm>
              <a:off x="3369960" y="232812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084"/>
            <p:cNvSpPr/>
            <p:nvPr/>
          </p:nvSpPr>
          <p:spPr>
            <a:xfrm>
              <a:off x="2897280" y="2642760"/>
              <a:ext cx="216360" cy="60480"/>
            </a:xfrm>
            <a:prstGeom prst="parallelogram">
              <a:avLst>
                <a:gd name="adj" fmla="val 8943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0"/>
            <p:cNvSpPr/>
            <p:nvPr/>
          </p:nvSpPr>
          <p:spPr>
            <a:xfrm>
              <a:off x="3051720" y="2613240"/>
              <a:ext cx="61920" cy="1414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1086"/>
            <p:cNvSpPr/>
            <p:nvPr/>
          </p:nvSpPr>
          <p:spPr>
            <a:xfrm>
              <a:off x="3051720" y="2684160"/>
              <a:ext cx="278280" cy="70560"/>
            </a:xfrm>
            <a:prstGeom prst="parallelogram">
              <a:avLst>
                <a:gd name="adj" fmla="val 9859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1087"/>
            <p:cNvSpPr/>
            <p:nvPr/>
          </p:nvSpPr>
          <p:spPr>
            <a:xfrm>
              <a:off x="3114000" y="2613240"/>
              <a:ext cx="154080" cy="33480"/>
            </a:xfrm>
            <a:prstGeom prst="parallelogram">
              <a:avLst>
                <a:gd name="adj" fmla="val 11505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088"/>
            <p:cNvSpPr/>
            <p:nvPr/>
          </p:nvSpPr>
          <p:spPr>
            <a:xfrm>
              <a:off x="4885920" y="2874960"/>
              <a:ext cx="1098000" cy="234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089"/>
            <p:cNvSpPr/>
            <p:nvPr/>
          </p:nvSpPr>
          <p:spPr>
            <a:xfrm>
              <a:off x="5968800" y="2910240"/>
              <a:ext cx="13384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090"/>
            <p:cNvSpPr/>
            <p:nvPr/>
          </p:nvSpPr>
          <p:spPr>
            <a:xfrm>
              <a:off x="349920" y="3586680"/>
              <a:ext cx="25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Primer</a:t>
              </a: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Rectangle 13"/>
          <p:cNvSpPr/>
          <p:nvPr/>
        </p:nvSpPr>
        <p:spPr>
          <a:xfrm>
            <a:off x="2928960" y="1071720"/>
            <a:ext cx="31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476360" y="150012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Tretiranje delova parcele, npr. samo u red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088"/>
          <p:cNvSpPr/>
          <p:nvPr/>
        </p:nvSpPr>
        <p:spPr>
          <a:xfrm>
            <a:off x="7284960" y="2909880"/>
            <a:ext cx="1098720" cy="23760"/>
          </a:xfrm>
          <a:prstGeom prst="line">
            <a:avLst/>
          </a:prstGeom>
          <a:ln w="63360">
            <a:solidFill>
              <a:srgbClr val="0000ff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089"/>
          <p:cNvSpPr/>
          <p:nvPr/>
        </p:nvSpPr>
        <p:spPr>
          <a:xfrm>
            <a:off x="3616200" y="2874960"/>
            <a:ext cx="1339920" cy="0"/>
          </a:xfrm>
          <a:prstGeom prst="line">
            <a:avLst/>
          </a:prstGeom>
          <a:ln w="63360">
            <a:solidFill>
              <a:srgbClr val="ff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1AB-79DC-419B-B21B-3BAB3415410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2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500640" cy="356220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pic>
        <p:nvPicPr>
          <p:cNvPr id="669" name="Picture 9" descr=""/>
          <p:cNvPicPr/>
          <p:nvPr/>
        </p:nvPicPr>
        <p:blipFill>
          <a:blip r:embed="rId2"/>
          <a:stretch/>
        </p:blipFill>
        <p:spPr>
          <a:xfrm>
            <a:off x="5056200" y="2306520"/>
            <a:ext cx="3112920" cy="3562560"/>
          </a:xfrm>
          <a:prstGeom prst="rect">
            <a:avLst/>
          </a:prstGeom>
          <a:ln w="38160">
            <a:solidFill>
              <a:srgbClr val="1f497d"/>
            </a:solidFill>
            <a:miter/>
          </a:ln>
        </p:spPr>
      </p:pic>
      <p:sp>
        <p:nvSpPr>
          <p:cNvPr id="670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5"/>
          <p:cNvSpPr/>
          <p:nvPr/>
        </p:nvSpPr>
        <p:spPr>
          <a:xfrm>
            <a:off x="1692360" y="15001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Brzina kretanja radnika (operat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5"/>
          <p:cNvSpPr/>
          <p:nvPr/>
        </p:nvSpPr>
        <p:spPr>
          <a:xfrm>
            <a:off x="611280" y="591516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Brzina kretanja radnika zavisi od površine (useva) koje se tre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3300"/>
                </a:solidFill>
                <a:latin typeface="Arial"/>
                <a:ea typeface="Arial"/>
              </a:rPr>
              <a:t>POTREBNA JE STALNA BRZINA I UJEDNAČEN PRITIS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6FA5-684B-45E3-8947-62617163C22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1835280" y="15001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ciznost rad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210960" y="2205000"/>
            <a:ext cx="8649000" cy="43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49720" indent="-45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eciznost rad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4525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Čak i sa potpuno proverenom i kalibrisanom prskalicom, preciznost radnika ima veliki uticaj na efikasnost zaštit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4525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Veoma je važno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4147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Održavati stalnu brzinu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4147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Održavati stalno istu visinu rasprskivača iznad tretirane površ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4147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Ako se koristi ručna poluga za postizanje pritiska, održavati ujednačen pritis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4147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Ako se radnik kreće u cik-cak pravcu, obezbediti da se prati širina zahvata prskalice, kako bi tretirana površina bila ravnomerno pokrive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414720">
              <a:lnSpc>
                <a:spcPct val="90000"/>
              </a:lnSpc>
              <a:spcBef>
                <a:spcPts val="499"/>
              </a:spcBef>
              <a:buClr>
                <a:srgbClr val="00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ecizno odmeriti potrebnu kolčinu preparata prema preporučenoj dozi prim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282-FDC0-4D99-9600-35C8DC4F8B0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le</a:t>
            </a: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đne prska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5"/>
          <p:cNvSpPr/>
          <p:nvPr/>
        </p:nvSpPr>
        <p:spPr>
          <a:xfrm>
            <a:off x="395280" y="2143080"/>
            <a:ext cx="8497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imenjivati visoke standarde higijene i zaštite na ra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 kalibracije još jednom isprati prskalicu, obrisati sve spoljne delove, proveriti sve spojeve, creva, filtere i di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alibraciju raditi samo sa čistom vo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Zapisati sve aktivnosti i rezul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Raditi kalibraciju na početku sezone i najmanje jednom u sezoni, ponoviti kada se menja radnik koji koristi leđnu prskali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čitati pažljivo uputstvo za primenu sredstva za zašt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9"/>
          <p:cNvSpPr/>
          <p:nvPr/>
        </p:nvSpPr>
        <p:spPr>
          <a:xfrm>
            <a:off x="3868560" y="2990880"/>
            <a:ext cx="18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1755720" y="1843200"/>
            <a:ext cx="4961160" cy="2306520"/>
          </a:xfrm>
          <a:prstGeom prst="rect">
            <a:avLst/>
          </a:prstGeom>
          <a:ln w="0">
            <a:noFill/>
          </a:ln>
        </p:spPr>
      </p:pic>
      <p:sp>
        <p:nvSpPr>
          <p:cNvPr id="682" name="Slide Number Placeholder 3"/>
          <p:cNvSpPr/>
          <p:nvPr/>
        </p:nvSpPr>
        <p:spPr>
          <a:xfrm>
            <a:off x="8839080" y="6248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3E0A-0977-4379-8ED6-6D7A647FC00D}" type="slidenum">
              <a:rPr b="1" lang="de-DE" sz="1600" spc="-1" strike="noStrike">
                <a:solidFill>
                  <a:srgbClr val="e1e1e1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C:\Users\marinal3\Desktop\logo SECPA.jpg"/>
          <p:cNvPicPr/>
          <p:nvPr/>
        </p:nvPicPr>
        <p:blipFill>
          <a:blip r:embed="rId2"/>
          <a:stretch/>
        </p:blipFill>
        <p:spPr>
          <a:xfrm>
            <a:off x="6477120" y="122400"/>
            <a:ext cx="243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84CC-A364-4C44-AA3A-7618F6F0F79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5284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54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veriti ispravnost prskalice, sa čistom vo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raditi kalibraciju na otvorenom pro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potrebiti prskalic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54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Očistiti prskalicu nakon upotr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1490760" y="11239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Četiri koraka u korišćenju leđne prsk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364" name="Rectangle 5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017-C860-4575-A1DE-55BB27B153C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649440" y="2052720"/>
            <a:ext cx="80769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548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de-CH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2700360" y="2311560"/>
            <a:ext cx="3871800" cy="39589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443640" y="2419200"/>
            <a:ext cx="2165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overiti mlaz rasprskiv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Očistiti rasprskivač sa četk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55920" y="2419200"/>
            <a:ext cx="216504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Da li ima oštećenja i cur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overiti         nosač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Očistiti ili zameniti r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skivač ili fil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5"/>
          <p:cNvSpPr/>
          <p:nvPr/>
        </p:nvSpPr>
        <p:spPr>
          <a:xfrm>
            <a:off x="1503360" y="127008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Prvi korak, proveriti ispravnost prska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373" name="Rectangle 8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1"/>
          <p:cNvSpPr/>
          <p:nvPr/>
        </p:nvSpPr>
        <p:spPr>
          <a:xfrm>
            <a:off x="6553080" y="66848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A712-816E-4E69-B0E8-2CD404972BA1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9" descr="filters"/>
          <p:cNvPicPr/>
          <p:nvPr/>
        </p:nvPicPr>
        <p:blipFill>
          <a:blip r:embed="rId1"/>
          <a:srcRect l="14193" t="0" r="0" b="26908"/>
          <a:stretch/>
        </p:blipFill>
        <p:spPr>
          <a:xfrm>
            <a:off x="0" y="2247840"/>
            <a:ext cx="4321080" cy="394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4135320" y="4473720"/>
            <a:ext cx="5008680" cy="22287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4435560" y="1916280"/>
            <a:ext cx="4657680" cy="24476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1679400" y="2122560"/>
            <a:ext cx="1833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Filter rasprskivač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3044880" y="256536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Filter rezervo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433680" y="438300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Filter na cre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5"/>
          <p:cNvSpPr/>
          <p:nvPr/>
        </p:nvSpPr>
        <p:spPr>
          <a:xfrm>
            <a:off x="971640" y="112536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Prvi korak, proveriti ispravnost filtera i rasprskivač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289080" y="2071800"/>
            <a:ext cx="440208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875880" indent="-4294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aživo i detaljno pročitati uputstvo za upotr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5880" indent="-4294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5880" indent="-4294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Uraditi kalibra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5880" indent="-4294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5880" indent="-4294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odesiti količinu rastvora za primenu prema usevu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5880" indent="-42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4722840" y="2071800"/>
            <a:ext cx="3941640" cy="4452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45"/>
          <p:cNvSpPr/>
          <p:nvPr/>
        </p:nvSpPr>
        <p:spPr>
          <a:xfrm>
            <a:off x="1530360" y="10922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Drugi korak, kalibracija prska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387" name="Rectangle 5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EE6-0930-4428-9BD7-6731C6B51D4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90440" y="2205000"/>
            <a:ext cx="3948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79520" indent="-3812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1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Upariti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z</a:t>
            </a: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ahtevanu dozu sredstva 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 sa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potrebnom kolčinom vode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3812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1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520" indent="-381240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SzPct val="1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Korišćenjem poznate z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premine rezervoara  na skali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pročitati potrebnu količinu preparata na skali</a:t>
            </a:r>
            <a:r>
              <a:rPr b="0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de-CH" sz="20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E:\New Folder\Pres 9\dial again.JPG"/>
          <p:cNvPicPr/>
          <p:nvPr/>
        </p:nvPicPr>
        <p:blipFill>
          <a:blip r:embed="rId1"/>
          <a:srcRect l="0" t="0" r="66943" b="54787"/>
          <a:stretch/>
        </p:blipFill>
        <p:spPr>
          <a:xfrm>
            <a:off x="4138560" y="1990800"/>
            <a:ext cx="4994280" cy="4734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5"/>
          <p:cNvSpPr/>
          <p:nvPr/>
        </p:nvSpPr>
        <p:spPr>
          <a:xfrm>
            <a:off x="1530360" y="10922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Drugi korak, kalibracija prska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BC82-DB69-4AC8-88D4-43C5A2CD2C1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72960" y="2071800"/>
            <a:ext cx="846000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8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143160" y="2071800"/>
            <a:ext cx="3614760" cy="402588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6"/>
          <p:cNvSpPr/>
          <p:nvPr/>
        </p:nvSpPr>
        <p:spPr>
          <a:xfrm>
            <a:off x="6719760" y="3963960"/>
            <a:ext cx="24242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Održavati stalnu visinu rasprskivač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 ujedna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 pritis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72960" y="2301840"/>
            <a:ext cx="29577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Nositi odgovarajuću zaštitnu opre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Sprečiti zagađen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Ne prskati uz vetar i sprečiti zanoš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5"/>
          <p:cNvSpPr/>
          <p:nvPr/>
        </p:nvSpPr>
        <p:spPr>
          <a:xfrm>
            <a:off x="1536840" y="106524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Treći korak, upotreba prska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2061-D9AF-4211-8846-A68EE55E0A7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1"/>
          <a:stretch/>
        </p:blipFill>
        <p:spPr>
          <a:xfrm>
            <a:off x="2195640" y="1857240"/>
            <a:ext cx="4065480" cy="46674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5"/>
          <p:cNvSpPr/>
          <p:nvPr/>
        </p:nvSpPr>
        <p:spPr>
          <a:xfrm>
            <a:off x="6273720" y="1870200"/>
            <a:ext cx="21654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skalicu obrisati spolja i isprati iznu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Isprati čistom vodom tri p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Tečnost od ispiranja utrošiti na usevu koji je upravo tret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5"/>
          <p:cNvSpPr/>
          <p:nvPr/>
        </p:nvSpPr>
        <p:spPr>
          <a:xfrm>
            <a:off x="755640" y="1077840"/>
            <a:ext cx="73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b050"/>
                </a:solidFill>
                <a:latin typeface="Arial"/>
                <a:ea typeface="Arial"/>
              </a:rPr>
              <a:t>Četvrti korak, održavanje prskalice nakon upotre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2:25:35Z</dcterms:created>
  <dc:creator>Luis Saramago</dc:creator>
  <dc:description/>
  <dc:language>en-US</dc:language>
  <cp:lastModifiedBy>Toshiba</cp:lastModifiedBy>
  <dcterms:modified xsi:type="dcterms:W3CDTF">2015-02-04T13:06:30Z</dcterms:modified>
  <cp:revision>338</cp:revision>
  <dc:subject/>
  <dc:title>Slide 1</dc:title>
</cp:coreProperties>
</file>